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DCD-A5AB-475F-AF59-7B104205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DE7-A368-4D05-A3FB-5DF6D4A3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26A-89DB-4310-A431-BA5CA266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CFE-22F6-4B1C-8368-96255B58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D13-7AB9-4A02-B87E-3CDE48FD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B4E-1D93-4695-BE21-36046989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475-E347-47DA-80B5-12E8F652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601-9F2B-43DE-A233-8F4FD022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721-BF26-4F76-BE8C-998862B1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BE5-62DD-40AF-9F35-7FADCD64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23A-AE05-40E5-AE4C-B6A70E38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6FC2-2B75-4F79-9AE7-46B2AFA3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3D75-ADD0-43A1-B829-66147E0AB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binatorial Optimization and Combinatorial Structure in Computational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1160" y="32418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Gusfield, Computer Science, UC Dav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e Map Project: HAP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H lead project ($100M) to find common haplotypes in the Human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y to associate genetic-influenced diseases with specific haplotypes, to either find causal haplotypes, or to find the region near causal m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plotyping individuals is expens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lotyp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Problem: For disease association studies, haplotype data is more valuable than genotype data, but haplotype data is hard to collect. Genotype data is easy to coll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al Problem: Given a set of n genotypes, determine the original set of 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plo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i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generated the n genotypes.  This is hopeless without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tic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ssume that the evolution of extant haplotypes can be displayed on a rooted, directed tree, with the all-0 haplotype at the root, where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from 0 to 1 on exactly one edge, and each extant haplotype is created by accumulating the changes on a path from the root to a leaf, where that haplotype is display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 the extant haplotypes evolved along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fect phylog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ll-0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20240" y="380880"/>
            <a:ext cx="7687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ect Phylogeny Haplotype (PP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200" y="1542960"/>
            <a:ext cx="83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 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720" y="243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895480"/>
            <a:ext cx="5657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aplotype pair explain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 if the merge of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plotypes create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otype. Example: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rge of 0 1 and 1 0 expl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60" y="52578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otyp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3733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21680" y="380880"/>
            <a:ext cx="385092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17720" y="380880"/>
            <a:ext cx="73422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Haplotype Phyloge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8560" y="1542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set of genotypes, find an explaining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haplotypes that fits a perfect phylog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28600" y="2971800"/>
          <a:ext cx="1676520" cy="2070000"/>
        </p:xfrm>
        <a:graphic>
          <a:graphicData uri="http://schemas.openxmlformats.org/drawingml/2006/table">
            <a:tbl>
              <a:tblPr/>
              <a:tblGrid>
                <a:gridCol w="558720"/>
                <a:gridCol w="559080"/>
                <a:gridCol w="55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62120" y="297180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8120" y="2743200"/>
          <a:ext cx="1447560" cy="3622680"/>
        </p:xfrm>
        <a:graphic>
          <a:graphicData uri="http://schemas.openxmlformats.org/drawingml/2006/table">
            <a:tbl>
              <a:tblPr/>
              <a:tblGrid>
                <a:gridCol w="618120"/>
                <a:gridCol w="443160"/>
                <a:gridCol w="386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3657600" y="274320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676480" y="2895480"/>
            <a:ext cx="83844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447880" y="4419720"/>
            <a:ext cx="22860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76840" y="4419720"/>
            <a:ext cx="76212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2895480"/>
            <a:ext cx="15228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5280" y="2895480"/>
            <a:ext cx="12952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05280" y="4114800"/>
            <a:ext cx="3049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10560" y="4114800"/>
            <a:ext cx="6858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6120" y="3121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21120" y="54864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21080" y="533412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88120" y="52578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78480" y="51814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40400" y="4114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26440" y="531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1120" y="3124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9400" y="57373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047920" y="4419720"/>
            <a:ext cx="60948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50532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276720"/>
            <a:ext cx="1447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8098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38098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680" y="5943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8160" y="586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880" y="5791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23760" y="56577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29960" y="571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11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880" y="2438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56520" y="380880"/>
            <a:ext cx="596880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lternative Expla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1828800" cy="2070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38080" y="3581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3048120"/>
            <a:ext cx="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038480" y="2819520"/>
          <a:ext cx="1218960" cy="3622680"/>
        </p:xfrm>
        <a:graphic>
          <a:graphicData uri="http://schemas.openxmlformats.org/drawingml/2006/table">
            <a:tbl>
              <a:tblPr/>
              <a:tblGrid>
                <a:gridCol w="345240"/>
                <a:gridCol w="46728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V="1">
            <a:off x="4419720" y="2819520"/>
            <a:ext cx="0" cy="358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38480" y="335268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64520" y="2940120"/>
            <a:ext cx="231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t Solutions to the PPH problem - n genotypes, m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a graph realization problem (GPPH) - build on Bixby-Wagner or Fushishige solution to graph realization O(nm alpha(nm)) time.  Gusfield, Recomb 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tion to graph realization - build on Tutte’s graph realization method O(nm^2) time.  Chung, Gusfield 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, from scratch combinatorial approach -O(nm^2) Bafna, Gusfield  et al JCB 0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keley (EHK) approach - specialize the Tutte solution to the PPH problem - O(nm^2)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duction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se of 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the set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in row i specify the exact set of mutations on the path from the root to the least common ancestor of the two leaves labeled i,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ect phylogeny for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thos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ries on the path is also the same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for S, and is easy to determine by “leaf counting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ed Perfect Phylogeny Problems and Applications u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Convex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f 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19720" y="3657600"/>
          <a:ext cx="3838320" cy="2603520"/>
        </p:xfrm>
        <a:graphic>
          <a:graphicData uri="http://schemas.openxmlformats.org/drawingml/2006/table">
            <a:tbl>
              <a:tblPr/>
              <a:tblGrid>
                <a:gridCol w="409320"/>
                <a:gridCol w="381240"/>
                <a:gridCol w="396720"/>
                <a:gridCol w="528840"/>
                <a:gridCol w="529920"/>
                <a:gridCol w="532080"/>
                <a:gridCol w="530280"/>
                <a:gridCol w="5299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04920" y="60948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y column c, count two for each 1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one for each 2.  The total is the 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leaves below mutation c,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logeny for S. So if we know the se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tations on a path from the root, 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ir order as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040" y="4495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4480" y="6216480"/>
            <a:ext cx="48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unt   5 4  2  2   1   1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73392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4191120"/>
            <a:ext cx="38098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Ass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4320" y="2784600"/>
            <a:ext cx="74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umns are sorted by leaf-count, largest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y perfect phylogeny, the edge corresponding to the leftmost 2  in a row must be on a path just after the 1’s for that 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259092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order is known for the red mutations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gether with the leftmost blue mut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404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what to do with the remaining blue entries (2’s) in a 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Simple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row i in S, and any column c, if S(i,c) i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 every perfect phylogeny for 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th between the two leaves labeled i, must contain the edge with mutatio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tion  c on the path between the two i leaves must be from such a column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29360" y="4152960"/>
            <a:ext cx="384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, but we d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ut 6 and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 Theoretic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genotype matrix S with n sites, and a red-blue subgraph for each row i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276720"/>
            <a:ext cx="18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886200"/>
            <a:ext cx="914400" cy="762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432"/>
                </a:moveTo>
                <a:cubicBezTo>
                  <a:pt x="96" y="216"/>
                  <a:pt x="192" y="0"/>
                  <a:pt x="288" y="0"/>
                </a:cubicBezTo>
                <a:cubicBezTo>
                  <a:pt x="384" y="0"/>
                  <a:pt x="528" y="360"/>
                  <a:pt x="576" y="43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960" y="3048120"/>
            <a:ext cx="636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irected tree T where e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 from 1 to n labels exactly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, so that each subgrap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ed in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356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0" y="4572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l Tool: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Rn be the integers 1 to n, and let P be an unordered subset of Rn.  P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T with n edges, where each is labeled with a unique integer of Rn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liz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 if there is a contiguous path in T labeled with the integers of P and no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1, P2, P3…Pk of path sets, tree T realizes the family if it realizes each P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aph realization problem generalizes the consecutive ones problem, where T is a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Graph Realiz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67280" y="2057400"/>
            <a:ext cx="45720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181120" y="335268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3352680"/>
            <a:ext cx="1526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05360" y="29718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2971800"/>
            <a:ext cx="45720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162560" y="36576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3657600"/>
            <a:ext cx="3808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6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8880" y="3124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05160" y="3371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38320" y="1924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81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05360" y="344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62360" y="2838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5760" y="2209680"/>
            <a:ext cx="235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1, 5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1, 2, 5,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3, 6,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1, 5, 6,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63120" y="4438800"/>
            <a:ext cx="29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re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rfect Phylogeny Model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inary 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080" y="4495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200" y="5181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200" y="5486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7600" y="21528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1560" y="2590920"/>
            <a:ext cx="33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al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9240" y="6019920"/>
            <a:ext cx="51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ant sequences at the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4480" y="3581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te mutations on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3580920"/>
            <a:ext cx="6094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88620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60" y="4167360"/>
            <a:ext cx="344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derives the set 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lynomial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lmost linear-time) algorithms exist for the graph realization problem – Whitney, Tutte, Cunningham, Edmonds, Bixby, Wagner, Gavril, Tamari, Fushishige, Lofgren 1930’s - 1980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literture on this problem is in the context of determining if a binary matroid is graph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lgorithms are not simple; none implemented before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gnizing graphic Matr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aph realization problem is the same problem as determining if a binary matroid is graphic, and the algorithms come from that lit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stest algorithm is due to Bixby and  Wagner (Math of OR,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methods due to Cunningham et 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ng PPH to graph re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olve any instance of the PPH problem by creating appropriat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th s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that a solution to the resulting graph realization problem leads to a solution to the PPH problem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sue: How to encode the needed sub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, and glue them together at the ro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Row Data to Tre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905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tree for row i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29360" y="4152960"/>
            <a:ext cx="384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5, 6 and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blue pa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5 is already know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a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-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lu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rected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90512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438280"/>
            <a:ext cx="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048120"/>
            <a:ext cx="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8240" y="1771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4080" y="2362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28240" y="2914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6680" y="18288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1: U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2: U,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3: 2,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4: 2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5: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35400" y="243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35400" y="2971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5400" y="358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95880" y="1847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5248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5780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6120" y="5303880"/>
            <a:ext cx="83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is a glue edge used to glue together the 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s from the different 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65280" y="306720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66360" y="344808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add a path set for the blues in row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971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2590920"/>
            <a:ext cx="2895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2 3 4 5 6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: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24440" y="286380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4800" y="21337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3505320"/>
            <a:ext cx="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26708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0280" y="4191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216320"/>
            <a:ext cx="1168560" cy="1879560"/>
          </a:xfrm>
          <a:custGeom>
            <a:avLst/>
            <a:gdLst/>
            <a:ahLst/>
            <a:rect l="l" t="t" r="r" b="b"/>
            <a:pathLst>
              <a:path w="736" h="1184">
                <a:moveTo>
                  <a:pt x="0" y="992"/>
                </a:moveTo>
                <a:cubicBezTo>
                  <a:pt x="256" y="496"/>
                  <a:pt x="512" y="0"/>
                  <a:pt x="624" y="32"/>
                </a:cubicBezTo>
                <a:cubicBezTo>
                  <a:pt x="736" y="64"/>
                  <a:pt x="664" y="992"/>
                  <a:pt x="672" y="1184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5920" y="5719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5040" y="5945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5800" y="423864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: 5, 6,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the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" y="2178000"/>
            <a:ext cx="768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path-sets encode everything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bout row i in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mily of path-sets are input to the graph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ation problem, and every solution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graph-realization problem specifies a solution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PH problem, and conver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0640" y="551664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ney (1933?) characterized the set of all solutions to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 (based on the three-connected components of a grap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arjan et al showed how to find these in linea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logenetic Networks: A richer model of haplotype 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800" y="4970520"/>
            <a:ext cx="33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 4, 5 fails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te-test. The sites 4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conflict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6440" y="622620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sequence histories often invol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mb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752480" y="1600200"/>
            <a:ext cx="16765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429000" y="1447920"/>
            <a:ext cx="144792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480" y="990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040" y="9144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81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840" y="32767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8320" y="4952880"/>
            <a:ext cx="73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4 sites come from P (Prefix) and the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5 onward come from S (Suffix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960" y="1650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6520" y="163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1447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1371600"/>
            <a:ext cx="304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3733920"/>
            <a:ext cx="3045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8120" y="373392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9720" y="388620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ombination of P and S at recombination point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4640" y="2811600"/>
            <a:ext cx="40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ossover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with Recomb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0" y="396252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1905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85680" y="2590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116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5400" y="4191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8200" y="320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30280" y="3886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8200" y="464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200" y="43434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80760" y="50292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7800" y="54100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19400" y="39625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160" y="525780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09360" y="22096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638320" y="3124080"/>
            <a:ext cx="38124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28840" y="403848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562360" y="4038480"/>
            <a:ext cx="759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3124080"/>
            <a:ext cx="8380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3962520"/>
            <a:ext cx="6858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0" y="3962520"/>
            <a:ext cx="763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29040" y="480060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80060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910640" y="808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440" y="21337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101 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29200" y="4572000"/>
            <a:ext cx="3808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09720" y="5410080"/>
            <a:ext cx="12193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9880" y="60958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360" y="533700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tree with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event now de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sequ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18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2400" y="5029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6944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vers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040" y="2120760"/>
            <a:ext cx="70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sequences M we want to find, if pos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fect phylogeny that derives M.  Remember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ite can change state from 0 to 1 only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5840" y="3686040"/>
            <a:ext cx="69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will denote the number of sequences in M, and m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te the length of each sequence in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48769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7760" y="5168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572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9880" y="5029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60958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5160" y="487692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 Phylogenetic Network (single crossover recombin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acyclic grap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s from 1 to m written on the edges. Each integer written only once. These represent mu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is labeled by a sequence obtained from its parent(s) and any edge label on the edge in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with two edges into it is a ``recombination node”, with a recombination point r. One parent is P and one is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work derives the sequences that label the  le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Phylogenetic Networks are meaning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M we want a phylogenetic network that derives M, but which 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880" y="3276720"/>
            <a:ext cx="79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 A perfect phylogeny (tree) if possible.  As little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 tree, if a tree is not possible.  Use as little recomb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gene-conversi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2920" y="4994280"/>
            <a:ext cx="76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 in a population is the key to gene-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based on associating genetic marker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traits (disease or favorable trait). Nature,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bination, has done many ``binary search” experi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ization is NP-h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lem of finding a phylogenetic network that creates a given set of sequences M, and minimizes the number of recombinations, is NP-hard. (Wang et al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explored the problem of finding a phylogenetic network where the recombination cycles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quired to be node disjoint,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gave a sufficient but not a necessary condition to recognize cases when this is possible.  O(nm + n^4)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bination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Phylogenetic Network, with a recombination node x,  if we trace two paths backwards from x, then the paths will eventually m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specified by those two paths is called a ``recombination cycle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mbination cycle in 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shares no node with any other recombinatio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hylogenetic network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“galled-tre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every recombination cycle is a g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42880" y="106200"/>
            <a:ext cx="5702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(Aug. 2003)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(nm + n^3)-time algorithm to determine whether or not M can be derived on a gall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 galled-tree produced by the algorithm is a “nearly-unique”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of that the galled-tree (if one exists) produced by the algorithm minimizes the number of recombinations used, over all phylogenetic-networks with all-0 ancestral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40760" y="5235480"/>
            <a:ext cx="73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ear in J. Bioinformatics and Computational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8680" y="516420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92320" y="5502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sfield, Edhu, Lang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bbed-trees: generalizing galled-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hylogenetic network a maximal set of intersecting cycles is called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ng each blob results in a directed, rooted tree, otherwise one of the “blobs” was not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every phylogenetic network can be viewed as a directed tree of blobs - a blobbed-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s are the non-tree-like parts of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c NASC: Arrange the sequences in a matrix. Then (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plicate columns), the sequences can be generated 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fect phylogeny if and only if no two columns (sites) contain all three pai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1 and 1,0 and 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680" y="59626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3-Gamete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an a set of sequences be derived on a perfect phyloge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he all-0 ro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295280" y="685800"/>
            <a:ext cx="1828800" cy="1143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57400" y="3886200"/>
            <a:ext cx="2286000" cy="1523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2362320"/>
            <a:ext cx="121896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7600" y="1066680"/>
            <a:ext cx="1143000" cy="1676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1828800"/>
            <a:ext cx="76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990360" y="167652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67080" y="26668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447560" y="31240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1676160" y="4952880"/>
            <a:ext cx="5331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2895480"/>
            <a:ext cx="76212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24280" y="14479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048120" y="144792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10552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22096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34290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22860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54100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5410080"/>
            <a:ext cx="30456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1480" y="1752480"/>
            <a:ext cx="3049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95280" y="2057400"/>
            <a:ext cx="2286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9144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91120" y="5334120"/>
            <a:ext cx="9144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600200" y="3276720"/>
            <a:ext cx="5335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76520" y="5715000"/>
            <a:ext cx="38088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8520" y="4138560"/>
            <a:ext cx="19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gly tang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l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905440" y="582480"/>
            <a:ext cx="28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network i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f blob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tre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blobs rel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90760" y="2162160"/>
            <a:ext cx="262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expl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ucture of the Tree P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930680" y="568440"/>
            <a:ext cx="124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0 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0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0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6920" y="228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8320" y="533520"/>
            <a:ext cx="33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1523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402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60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215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404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4880" y="16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191120" y="11430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91320" y="1600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26600" y="24620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nodes are connected iff th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sites conflict, i.e,  fail the 3-gam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04800" y="262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73360" y="1541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46880" y="4643280"/>
            <a:ext cx="70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TOOL: We represent the pairwise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onflict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ites two sites i and j conflict, then the sites must b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some recombination cycle whose recombination point is between the two sites i and 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is is a general fact for all phylogenetic network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554976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 the prior example, site 1 conflicts with 3 and 4; and si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hylogenetic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67080" y="2286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67080" y="3657600"/>
            <a:ext cx="20574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657240" y="228600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1676520" y="3276720"/>
            <a:ext cx="1295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514600" y="3657600"/>
            <a:ext cx="17524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733560" y="449568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971800" y="3276720"/>
            <a:ext cx="76212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4495680"/>
            <a:ext cx="14479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48006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715000" y="3962520"/>
            <a:ext cx="5335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47242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48520" y="3962520"/>
            <a:ext cx="99036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3960" y="1905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564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8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643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30440" y="4724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87840" y="4343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1168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8000" y="46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2200" y="434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16800" y="4114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971440" y="2743200"/>
            <a:ext cx="685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286000" y="2743200"/>
            <a:ext cx="1371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4495680"/>
            <a:ext cx="3812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719520" y="20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4440" y="2590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6880" y="4191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0656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8840" y="2971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40719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125160" y="56386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2560" y="64008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26280" y="3657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92760" y="4572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58520" y="5638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1360" y="46483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448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05200" y="2251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onsequence of the simple f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ites on the same (non-trivial) connected component of the conflict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on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ame blo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lobbed-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by transitiv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e can’t subdivide a blob into a tree-like structure if it only contains sites from a single connected component of the conflict 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Result about Galls: For galls, the converse of the simple consequence is also tr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ites that are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n-trivial)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laced on the sam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hylogenetic network for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in a galled-tree T for M each gall contains all and only the sites of one (non-trivial) connected component of the conflict graph. All unconflicted sites can be put on edges outside of the ga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2200" y="609912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key to the efficient solution to the galled-tre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recombination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non-trivial connected components, and this is the minimum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flipH="1">
            <a:off x="3505320" y="685800"/>
            <a:ext cx="9144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05320" y="1905120"/>
            <a:ext cx="15228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281952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9720" y="685800"/>
            <a:ext cx="30456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267080" y="2286000"/>
            <a:ext cx="45720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742840" y="190512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276720" y="2819520"/>
            <a:ext cx="38088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2286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724280" y="2286000"/>
            <a:ext cx="221004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267080"/>
            <a:ext cx="6094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324480" y="4267080"/>
            <a:ext cx="60984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24480" y="510552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933960" y="4952880"/>
            <a:ext cx="60948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57913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5943600" y="5105520"/>
            <a:ext cx="38088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9528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670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613320" y="8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92800" y="198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08720" y="1119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2286000"/>
            <a:ext cx="763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262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24068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6560" y="2743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0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7960" y="35812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58680" y="4191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: 1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505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560" y="55627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2520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0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392600" y="53341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: 0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87640" y="60012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alled-tree gen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s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rior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00400" y="2911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31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944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39000" y="2525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62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074000" y="4917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92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6150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10440" y="13381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294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43800" y="179532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550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5408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35920" y="957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4552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69640" y="19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005520" y="141444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81840" y="18716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05720" y="1871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019920" y="533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new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y set of sequences M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blobbed-tree  T(M) that derives M, where each blob contain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l and 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ites i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n-trivial connected component of  the conflict graph.  The unconflicted sites can always be put on edges outside of any blob. Moreover, the tree part of T(M) is u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83880" y="5715000"/>
            <a:ext cx="64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it weaker than the result for galled-trees: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s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“c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61840" y="746280"/>
            <a:ext cx="81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n the case of binary characters, if each pair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a tree, then the entire set of columns allows a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of dimension n by m, the existence of a perfect phyl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 can be tested in O(nm) time an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built in that time, if there is one. Gusfield, Networks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4960" y="421812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the classic theorem in two more mo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 genetic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the tree part of the blobbed-tree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sequences labeling the exterior nodes on any blob is ea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a “good” structure inside a blob B is the problem of generating the sequences of the exterior  nodes of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asy to test whether the exterior sequences on B can be generated with only a single recombination. The original galled-tree problem is now just the problem of testing whether one single-crossover recombination is sufficient for each bl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an be solved by successively removing each exterior sequence and testing if the remaining sequences can be generated on a perfect phylogeny of the correc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cessary Condition for a Galled-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can be generated on a galled-tree, then the conflict graph must be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partite, bi-conv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.  Other structural proper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conflict graph can be deduce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tension of the basic Perfect Phylogeny model: non-binary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34120" y="2552760"/>
            <a:ext cx="736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rwise theorem for binary characters 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when there are more than two states per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is, each pair of characters may allow a tree, bu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set of characters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erfect Phylogeny for  non-binary charac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K characters (columns), with up to q states per character, and n rows (taxa) in a table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Perfect Phylogeny T for E, each node of T is labeled with K-states, one from each of the K charact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has n leaves, and each leaf  is labeled with the states of a distinct row of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character-state pair (C,i), the nodes of T that are labeled with state i for character C, form a connected subtree of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21337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590920" y="198108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90920" y="320040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3200400"/>
            <a:ext cx="7596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66880" y="4572000"/>
            <a:ext cx="16765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905120" y="4572000"/>
            <a:ext cx="7617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6172200" y="2209680"/>
          <a:ext cx="1523880" cy="2587680"/>
        </p:xfrm>
        <a:graphic>
          <a:graphicData uri="http://schemas.openxmlformats.org/drawingml/2006/table">
            <a:tbl>
              <a:tblPr/>
              <a:tblGrid>
                <a:gridCol w="50760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6175080" y="1676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B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94480" y="22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751720" y="273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3732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37320" y="37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7801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50086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1560" y="5418000"/>
            <a:ext cx="8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66320" y="16779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7840" y="14526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,3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227120" y="26510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30200" y="5643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59880" y="59119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87120" y="41893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01280" y="30481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,2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3400" y="366696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te 2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ac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267984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table E, is there a Perfect Phylogeny for 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07120" y="267984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alle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ord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very cycle of length fou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ntains a ch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Chordal Graph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1480" y="1905120"/>
            <a:ext cx="80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aph G is chordal if and only if it is the intersection grap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S of subtrees of a tree T. Each node of  G is a member of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295280" y="396252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52480" y="457200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990720" y="4572000"/>
            <a:ext cx="76176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43200" y="388584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43200" y="46483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95280" y="3809880"/>
            <a:ext cx="10670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9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4040" y="33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6020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5848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86000" y="4537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3657600"/>
            <a:ext cx="8380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972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34280" y="3241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091480" y="461340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,c,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7800" y="331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c,d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78560" y="449568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6800" y="449568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e,f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90720" y="529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3733920"/>
            <a:ext cx="167652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791320" y="380952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3432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3733920"/>
            <a:ext cx="838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80988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81680" y="33940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,e,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80988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3809880"/>
            <a:ext cx="1447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7772400" y="38862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934320" y="388584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37680" y="5178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880" y="2581200"/>
            <a:ext cx="75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erfect phylogeny T for a table E, for any characte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y state X of character C, the subgraph of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the nodes labeled (C,X) form a single, 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ee of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there is a natural set of subtrees of T induced by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aplotyping via Perfect Phylogeny - Model,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rdal Completion Approach to Perfect Phyloge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838080" y="2209680"/>
          <a:ext cx="1524240" cy="2587680"/>
        </p:xfrm>
        <a:graphic>
          <a:graphicData uri="http://schemas.openxmlformats.org/drawingml/2006/table">
            <a:tbl>
              <a:tblPr/>
              <a:tblGrid>
                <a:gridCol w="507960"/>
                <a:gridCol w="508320"/>
                <a:gridCol w="50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901440" y="16416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B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4316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31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9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90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90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96920" y="217476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B         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795480" y="27082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  1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3394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2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15620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971800"/>
            <a:ext cx="1828800" cy="1371600"/>
          </a:xfrm>
          <a:custGeom>
            <a:avLst/>
            <a:gdLst/>
            <a:ahLst/>
            <a:rect l="l" t="t" r="r" b="b"/>
            <a:pathLst>
              <a:path w="1152" h="864">
                <a:moveTo>
                  <a:pt x="0" y="864"/>
                </a:moveTo>
                <a:cubicBezTo>
                  <a:pt x="144" y="624"/>
                  <a:pt x="288" y="384"/>
                  <a:pt x="480" y="240"/>
                </a:cubicBezTo>
                <a:cubicBezTo>
                  <a:pt x="672" y="96"/>
                  <a:pt x="1040" y="40"/>
                  <a:pt x="115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91120" y="373356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5181480" y="297144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3120" y="5943600"/>
            <a:ext cx="57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table E induces a clique in G(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1560" y="4842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0960" y="2631960"/>
            <a:ext cx="251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G(E)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, and an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d only if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ow in E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23120" y="4670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87840" y="3809880"/>
            <a:ext cx="68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perfect phylogeny for table E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can be added to graph G(E) to make it a chord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96040" y="1870200"/>
            <a:ext cx="62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if table E has K columns, then G(E) i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partit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50840" y="33940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Buneman 196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20440" y="55278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was open for about 20 ye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olved by Warnow, Kannan, Agarwalla and Fernandez-B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Phylogeny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49800" y="2243160"/>
            <a:ext cx="820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y fixed bound on the number of states per charac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fect Phylogeny Problem can be solved in polynomia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f the number of states per character is not bound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oblem is NP-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, Powerpoint and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csif.cs.ucdavis.edu/~gusfiel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907560" y="3230640"/>
            <a:ext cx="723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Journal: IEEE/ACM Transactions on Compu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and Bioinformatics (TC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omputer.org/tcbb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otypes and Hapl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ndividual has two “copies” of each chromos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ach site, each chromosome has one of two alleles (states) denoted by 0 and 1 (motivat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43434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1  1  1  0  0  1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1  0  1  0  0  1  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952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791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1  2  1  0  0  1  2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64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haplotypes per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otype for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27800" y="520056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ge the hapl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P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P is a Single Nucleotide Polymorphism - a site in the genome where two different nucleotides appear with sufficient frequency in the population (say each with 5% frequency or mo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maps have been compiled with a density of about 1 site per 1000 bases of D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P data is what is mostly collected in populations - it is much cheaper to collect than full sequence data, and focuses on variation in the population, which is what is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1:14:41Z</dcterms:created>
  <dc:creator>Dan Gusfield</dc:creator>
  <dc:description/>
  <dc:language>en-US</dc:language>
  <cp:lastModifiedBy>Dan Gusfield</cp:lastModifiedBy>
  <dcterms:modified xsi:type="dcterms:W3CDTF">2004-03-11T19:24:03Z</dcterms:modified>
  <cp:revision>11</cp:revision>
  <dc:subject/>
  <dc:title>Combinatorics in Computational Biology</dc:title>
</cp:coreProperties>
</file>