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21B-C597-492B-B15B-21DAC21E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562-ACB4-4111-97D2-8B3D423D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05D5-7CBE-4BD0-8315-20E4B725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D31-A15F-4D8F-9275-125EE1A4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090-9596-4904-A8B0-E93ECEAA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554-623D-48A8-96DD-1B838012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E23-E271-451E-82A5-17283E78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B71-5CE9-45A7-9885-B1883ED4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24E-F651-4DCB-B108-D9123A7B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DAD-844D-4D37-934B-A8524459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E6D-A4FA-45BE-8D07-09A8590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8F1-D0B4-43F9-8929-FF2F5105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5272-A9D6-49C1-9A06-BC6373EF30B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ОЕКТ  “УЧИЛИЩНА СИСТЕМА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0000"/>
                </a:solidFill>
                <a:latin typeface="Calibri"/>
              </a:rPr>
              <a:t>Разписание на проек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Га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C:\Documents and Settings\Iavor\My Documents\Gantt.gif"/>
          <p:cNvPicPr/>
          <p:nvPr/>
        </p:nvPicPr>
        <p:blipFill>
          <a:blip r:embed="rId1"/>
          <a:stretch/>
        </p:blipFill>
        <p:spPr>
          <a:xfrm>
            <a:off x="1979640" y="1173240"/>
            <a:ext cx="7032600" cy="3155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10"/>
          <p:cNvSpPr/>
          <p:nvPr/>
        </p:nvSpPr>
        <p:spPr>
          <a:xfrm>
            <a:off x="2268360" y="957240"/>
            <a:ext cx="6551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Стартир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Изготвяне на Б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автент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комун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стване на модула за Е-бу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пра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ъставяне на граф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Приключв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10"/>
          <p:cNvSpPr/>
          <p:nvPr/>
        </p:nvSpPr>
        <p:spPr>
          <a:xfrm>
            <a:off x="2268360" y="620640"/>
            <a:ext cx="63471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върши, за да запо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модел на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скрипт, създаващ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Започне, за да започ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функционалност за оценяв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стване на модула за Е-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ПЕРТ 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Documents and Settings\Iavor\My Documents\My Pictures\Pert.gif"/>
          <p:cNvPicPr/>
          <p:nvPr/>
        </p:nvPicPr>
        <p:blipFill>
          <a:blip r:embed="rId1"/>
          <a:stretch/>
        </p:blipFill>
        <p:spPr>
          <a:xfrm>
            <a:off x="1763640" y="2583000"/>
            <a:ext cx="7380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ontent Placeholder 10"/>
          <p:cNvSpPr/>
          <p:nvPr/>
        </p:nvSpPr>
        <p:spPr>
          <a:xfrm>
            <a:off x="2268360" y="1557360"/>
            <a:ext cx="63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Увеличаване на парале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насочване на хора завършели дейността си, които изчакват края на друга такава към дейности от критичния пъ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348000" y="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Възможности за компре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БЛАГОДАРЯ   ЗА   ВНИМАНИЕТ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2:10Z</dcterms:created>
  <dc:creator>Admin</dc:creator>
  <dc:description/>
  <dc:language>en-US</dc:language>
  <cp:lastModifiedBy>YD</cp:lastModifiedBy>
  <dcterms:modified xsi:type="dcterms:W3CDTF">2011-11-23T00:39:08Z</dcterms:modified>
  <cp:revision>173</cp:revision>
  <dc:subject/>
  <dc:title>PRESENTATION  NAME</dc:title>
</cp:coreProperties>
</file>