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6EA-F66A-49BF-A3D7-96B6F9DF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417-60F2-4D93-A8D4-548BFED2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B2F-ABF9-4F8F-A0C5-8F267451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405-6876-4443-8578-CF234682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A69-6A39-4344-878F-FF04ACBE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5D9-7C96-44B7-BBFD-90F2BA5C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40CD-D5C0-4FE2-9D47-BE3ACC3F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4F7-EE2F-4D5C-B5B2-308B9D24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79E-3610-4B55-AEBF-93AC7104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076-3847-498C-A4B8-2E365208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A91-4093-45AE-A343-CA91FA32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A8B-7707-407C-A9CE-DDDDE2DC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0944-D63B-4DBB-9566-F07809FF6BA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ffffff"/>
                </a:solidFill>
                <a:latin typeface="Arial"/>
              </a:rPr>
              <a:t>ПРОЕКТ  “УЧИЛИЩНА СИСТЕМА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0" spc="-1" strike="noStrike">
                <a:solidFill>
                  <a:srgbClr val="000000"/>
                </a:solidFill>
                <a:latin typeface="Calibri"/>
              </a:rPr>
              <a:t>Разписание на проект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Ган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C:\Documents and Settings\Iavor\My Documents\Gantt.gif"/>
          <p:cNvPicPr/>
          <p:nvPr/>
        </p:nvPicPr>
        <p:blipFill>
          <a:blip r:embed="rId1"/>
          <a:stretch/>
        </p:blipFill>
        <p:spPr>
          <a:xfrm>
            <a:off x="1979640" y="1173240"/>
            <a:ext cx="7032600" cy="315576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10"/>
          <p:cNvSpPr/>
          <p:nvPr/>
        </p:nvSpPr>
        <p:spPr>
          <a:xfrm>
            <a:off x="2268360" y="957240"/>
            <a:ext cx="655164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Стартир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Изготвяне на Б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автент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комуника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стване на модула за Е-бу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прав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готвяне на модул за съставяне на графи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Calibri"/>
              </a:rPr>
              <a:t>Приключване на разработка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Content Placeholder 10"/>
          <p:cNvSpPr/>
          <p:nvPr/>
        </p:nvSpPr>
        <p:spPr>
          <a:xfrm>
            <a:off x="2268360" y="620640"/>
            <a:ext cx="63471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върши, за да запо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модел на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скрипт, създаващ Б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Започне, за да започ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Изготвяне на функционалност за оценяв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/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стване на модула за Е-обу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Зависим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3348000" y="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ПЕРТ Диагр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:\Documents and Settings\Iavor\My Documents\My Pictures\Pert.gif"/>
          <p:cNvPicPr/>
          <p:nvPr/>
        </p:nvPicPr>
        <p:blipFill>
          <a:blip r:embed="rId1"/>
          <a:stretch/>
        </p:blipFill>
        <p:spPr>
          <a:xfrm>
            <a:off x="1763640" y="2583000"/>
            <a:ext cx="7380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ontent Placeholder 10"/>
          <p:cNvSpPr/>
          <p:nvPr/>
        </p:nvSpPr>
        <p:spPr>
          <a:xfrm>
            <a:off x="2268360" y="1557360"/>
            <a:ext cx="634716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Увеличаване на паралел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насочване на хора завършели дейността си, които изчакват края на друга такава към дейности от критичния пъ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3348000" y="0"/>
            <a:ext cx="41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Arial"/>
              </a:rPr>
              <a:t>Възможности за компре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179280" y="1125360"/>
            <a:ext cx="1368360" cy="5716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Г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79280" y="191628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204840" y="2637000"/>
            <a:ext cx="1368360" cy="502920"/>
          </a:xfrm>
          <a:prstGeom prst="roundRect">
            <a:avLst>
              <a:gd name="adj" fmla="val 16667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contenu 2"/>
          <p:cNvSpPr/>
          <p:nvPr/>
        </p:nvSpPr>
        <p:spPr>
          <a:xfrm>
            <a:off x="204840" y="2708280"/>
            <a:ext cx="144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192240" y="2637000"/>
            <a:ext cx="1392120" cy="5824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Завис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contenu 2"/>
          <p:cNvSpPr/>
          <p:nvPr/>
        </p:nvSpPr>
        <p:spPr>
          <a:xfrm>
            <a:off x="252360" y="28224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179280" y="3430440"/>
            <a:ext cx="1381320" cy="58284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Диа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contenu 2"/>
          <p:cNvSpPr/>
          <p:nvPr/>
        </p:nvSpPr>
        <p:spPr>
          <a:xfrm>
            <a:off x="239760" y="36162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66680" y="4221000"/>
            <a:ext cx="139212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 компре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312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БЛАГОДАРЯ   ЗА   ВНИМАНИЕТ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2:10Z</dcterms:created>
  <dc:creator>Admin</dc:creator>
  <dc:description/>
  <dc:language>en-US</dc:language>
  <cp:lastModifiedBy>YD</cp:lastModifiedBy>
  <dcterms:modified xsi:type="dcterms:W3CDTF">2011-11-23T00:39:08Z</dcterms:modified>
  <cp:revision>173</cp:revision>
  <dc:subject/>
  <dc:title>PRESENTATION  NAME</dc:title>
</cp:coreProperties>
</file>