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D82-EC19-47F4-BFA0-982A7884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D5D-8310-46A5-880C-A9CCCE7C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7F2-457B-41E3-A0AC-90788242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4752-0BC3-4AE2-B838-8976B403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9B45-8743-4AFB-AFBF-F8391060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B5D9-0381-4EA9-ACB4-0BF00927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0B80-D7C2-4476-96B8-931B26E5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8FD-AEEB-40F7-97BD-2296E94C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397-158F-49CF-8495-60A98EA1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E9EC-75BA-4057-AC1C-BEDB6D6D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B2A2-6AD6-4765-9FD9-B991633A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F3A6-DF16-42DD-BE71-2227B004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3CD2-3D5C-44B8-BC19-942C98EFAA0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ОЕКТ  “УЧИЛИЩНА СИСТЕМА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28760" y="27860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0" spc="-1" strike="noStrike">
                <a:solidFill>
                  <a:srgbClr val="000000"/>
                </a:solidFill>
                <a:latin typeface="Calibri"/>
              </a:rPr>
              <a:t>Разписание на проект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Ган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диагр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C:\Documents and Settings\Iavor\My Documents\Gantt.gif"/>
          <p:cNvPicPr/>
          <p:nvPr/>
        </p:nvPicPr>
        <p:blipFill>
          <a:blip r:embed="rId1"/>
          <a:stretch/>
        </p:blipFill>
        <p:spPr>
          <a:xfrm>
            <a:off x="1979640" y="1173240"/>
            <a:ext cx="7032600" cy="31557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10"/>
          <p:cNvSpPr/>
          <p:nvPr/>
        </p:nvSpPr>
        <p:spPr>
          <a:xfrm>
            <a:off x="2268360" y="957240"/>
            <a:ext cx="65516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Стартиране на разработк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Изготвяне на Б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автентик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комуник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стване на модула за Е-буч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справ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съставяне на графиц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Приключване на разработк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ontent Placeholder 10"/>
          <p:cNvSpPr/>
          <p:nvPr/>
        </p:nvSpPr>
        <p:spPr>
          <a:xfrm>
            <a:off x="2268360" y="620640"/>
            <a:ext cx="634716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Свърши, за да започ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модел на Б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/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скрипт, създаващ Б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Започне, за да започ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функционалност за оценява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/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Тестване на модула за Е-об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Зависим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ПЕРТ Диагр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C:\Documents and Settings\Iavor\My Documents\My Pictures\Pert.gif"/>
          <p:cNvPicPr/>
          <p:nvPr/>
        </p:nvPicPr>
        <p:blipFill>
          <a:blip r:embed="rId1"/>
          <a:stretch/>
        </p:blipFill>
        <p:spPr>
          <a:xfrm>
            <a:off x="1763640" y="2583000"/>
            <a:ext cx="7380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ontent Placeholder 10"/>
          <p:cNvSpPr/>
          <p:nvPr/>
        </p:nvSpPr>
        <p:spPr>
          <a:xfrm>
            <a:off x="2268360" y="1557360"/>
            <a:ext cx="634716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Увеличаване на паралел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насочване на хора завършели дейността си, които изчакват края на друга такава към дейности от критичния пъ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3348000" y="0"/>
            <a:ext cx="41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Възможности за компре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за 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312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БЛАГОДАРЯ   ЗА   ВНИМАНИЕТ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6:12:10Z</dcterms:created>
  <dc:creator>Admin</dc:creator>
  <dc:description/>
  <dc:language>en-US</dc:language>
  <cp:lastModifiedBy>YD</cp:lastModifiedBy>
  <dcterms:modified xsi:type="dcterms:W3CDTF">2011-11-23T00:39:08Z</dcterms:modified>
  <cp:revision>173</cp:revision>
  <dc:subject/>
  <dc:title>PRESENTATION  NAME</dc:title>
</cp:coreProperties>
</file>