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D687-9F0C-43C5-8FCF-2FC3269C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926B-7237-499C-BF3C-73BEC699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F43-72C6-4514-BA44-261D9C59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449-2788-450E-9079-0829735F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27E-E8DC-4C31-800F-9FD5D0B7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82D-A593-47D3-8650-7DFEB9C8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6134-C5AD-4C48-BACF-912DEE05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EB3-9954-4877-A3A8-998751E8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CA17-1E31-4CA3-B0AE-70F141A0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C06-42E8-4416-84B6-BB256B40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BACF-FC6C-44BD-832C-2F8D9759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F6C-0ABC-4C75-885F-7EE4489E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B872-2326-4137-8456-9E4BDC76F7C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ОЕКТ  “УЧИЛИЩНА СИСТЕМА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28760" y="2786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0" spc="-1" strike="noStrike">
                <a:solidFill>
                  <a:srgbClr val="000000"/>
                </a:solidFill>
                <a:latin typeface="Calibri"/>
              </a:rPr>
              <a:t>Разписание на проект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Ган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диагр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C:\Documents and Settings\Iavor\My Documents\Gantt.gif"/>
          <p:cNvPicPr/>
          <p:nvPr/>
        </p:nvPicPr>
        <p:blipFill>
          <a:blip r:embed="rId1"/>
          <a:stretch/>
        </p:blipFill>
        <p:spPr>
          <a:xfrm>
            <a:off x="1979640" y="1173240"/>
            <a:ext cx="7032600" cy="31557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10"/>
          <p:cNvSpPr/>
          <p:nvPr/>
        </p:nvSpPr>
        <p:spPr>
          <a:xfrm>
            <a:off x="2268360" y="957240"/>
            <a:ext cx="6551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Стартиране на разработк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Изготвяне на Б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автентик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комуник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стване на модула за Е-буч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справ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съставяне на графиц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Приключване на разработк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ontent Placeholder 10"/>
          <p:cNvSpPr/>
          <p:nvPr/>
        </p:nvSpPr>
        <p:spPr>
          <a:xfrm>
            <a:off x="2268360" y="620640"/>
            <a:ext cx="634716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Свърши, за да запо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модел на Б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/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скрипт, създаващ Б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Започне, за да започ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функционалност за оценява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/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Тестване на модула за Е-об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Зависим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ПЕРТ Диагр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:\Documents and Settings\Iavor\My Documents\My Pictures\Pert.gif"/>
          <p:cNvPicPr/>
          <p:nvPr/>
        </p:nvPicPr>
        <p:blipFill>
          <a:blip r:embed="rId1"/>
          <a:stretch/>
        </p:blipFill>
        <p:spPr>
          <a:xfrm>
            <a:off x="1763640" y="2583000"/>
            <a:ext cx="7380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ontent Placeholder 10"/>
          <p:cNvSpPr/>
          <p:nvPr/>
        </p:nvSpPr>
        <p:spPr>
          <a:xfrm>
            <a:off x="2268360" y="1557360"/>
            <a:ext cx="634716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Увеличаване на паралел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насочване на хора завършели дейността си, които изчакват края на друга такава към дейности от критичния пъ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348000" y="0"/>
            <a:ext cx="41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Възможности за компре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 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312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БЛАГОДАРЯ   ЗА   ВНИМАНИЕТ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6:12:10Z</dcterms:created>
  <dc:creator>Admin</dc:creator>
  <dc:description/>
  <dc:language>en-US</dc:language>
  <cp:lastModifiedBy>YD</cp:lastModifiedBy>
  <dcterms:modified xsi:type="dcterms:W3CDTF">2011-11-23T00:39:08Z</dcterms:modified>
  <cp:revision>173</cp:revision>
  <dc:subject/>
  <dc:title>PRESENTATION  NAME</dc:title>
</cp:coreProperties>
</file>