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AC2B0-6736-44FE-92B0-DF526117D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ED113-492A-4649-934D-A93826AEE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982A4-FC45-4CE2-9B27-41EEC6990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FEF3B-A9E7-446B-9BF5-D4420F81A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5D730-9778-47DF-ADE3-9C5F18106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2AC63-966D-4D5C-975A-BE2D88AD4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62A7D-6333-4E34-9D4B-D8D1D25C3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A47CF-04E3-4DB4-9FA0-759A8F050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AC626-1D88-4C45-AEF1-44694ABD1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67CA3-69D0-4019-B1ED-60288258F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AF17C-E2E1-4566-BA9D-F92A56468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3F692-3C99-4C9B-BF17-32B360ED6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667FE-4557-49A2-ADF8-D8FF02343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9D234-A68F-40C3-90D8-4C38093B0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D8E74-DE78-4E25-A92F-4BE61134F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03284-1E51-4FB0-8E20-0C1B1FBEF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0853B-8C77-4A3E-9262-B431D712C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3009902-4EEB-4955-839A-D6D18163F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04F356D-602D-4250-A4DE-515CBAE19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F2A2774-707B-4E11-984B-0968435C2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0BE72E3-0354-4175-82D1-4ACBBD290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BDECF3F-CB4C-4166-96A7-B75A526A6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7713A-60D7-4735-AB9D-7865E84A7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95B700B-06F7-4E77-9B6F-FD664721E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8C58FE9-09E6-45CA-92A2-E77085B03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FF07CF0-9BCC-42DC-B0F7-6AC1EB28B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81B02A9-16B4-4261-8FD7-47B49E2A4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3A74B7B-E370-428A-8753-F29EA0867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279EE3E-5FD6-422A-B66F-22EC593E7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5EC4B44-A08A-45EA-BF56-2D62B4E72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DBDABE-7621-41EF-AD91-FC96BF395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9B9C3E-0842-4216-80FF-E35D4BFC9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B394C0-CB37-4D6F-8260-524802EA1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E3AB6-4E2B-4C75-A679-0D1A25E86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77A3B9-94C4-4C93-81E4-49AAC999D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9CBC34-11D6-4DDE-ACD2-8E14D054F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810688-25D9-42C0-882A-CD0A4E0C0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C8EAF9-74D5-417A-9E7E-A868FDCEC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041979-28C3-4183-A8CB-37B9A7451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D71A2E-C600-48B3-B4A6-5C586F4FC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1F7866-A8E5-4C04-B3B3-7F57070F9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DFF5A5-CB15-4478-B757-24D48AB35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E441CC-3E65-44E3-8BC6-03109A076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1ADF3-F94C-4763-B65A-51346541B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D3F88-509C-44A9-8293-DF21777E2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B3015-0999-483A-A9EC-EDF595C54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399D1-3CF5-4F3D-811B-636E2740B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AB81C-A2B3-48B7-A9D3-ED59CA89A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авоъгъл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Правоъгъл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Правоъгъл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Правоъгъл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Правоъгъл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Закръглен правоъгъл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Закръглен правоъгъл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Правоъгъл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Правоъгъл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Правоъгъл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Правоъгъл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" name="Правоъгъл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" name="Правоъгъл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D7AE2-63B9-4FC9-9BD0-551782C47C33}" type="slidenum">
              <a:rPr b="0" lang="bg-BG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авоъгълник 22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Правоъгълник 23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Правоъгълник 24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Правоъгълник 25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Правоъгълник 26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" name="Закръглен правоъгълник 29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Закръглен правоъгълник 30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Правоъгълник 6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" name="Правоъгълник 9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" name="Правоъгълник 10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Правоъгълник 1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5E71D-1A74-474A-9D17-81FB0981A044}" type="slidenum">
              <a:rPr b="0" lang="bg-BG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авоъгъл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Правоъгъл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Правоъгъл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Правоъгъл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Правоъгъл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Закръглен правоъгъл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2" name="Закръглен правоъгъл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" name="Правоъгъл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Правоъгъл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Правоъгъл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6" name="Правоъгъл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7" name="Правоъгъл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Правоъгъл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F0566-1B48-4924-ABA8-5C3C5057B8B8}" type="slidenum">
              <a:rPr b="0" lang="bg-BG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Правоъгъл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Правоъгъл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Правоъгъл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Правоъгъл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" name="Правоъгъл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Закръглен правоъгъл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Закръглен правоъгъл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Правоъгъл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Правоъгъл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Правоъгъл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0" name="Правоъгъл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1" name="Правоъгъл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Правоъгъл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B2E31-9FC8-4331-A28C-54FE99E92832}" type="slidenum">
              <a:rPr b="0" lang="bg-BG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692280"/>
            <a:ext cx="8472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зписание на проект </a:t>
            </a:r>
            <a:br>
              <a:rPr sz="5400"/>
            </a:br>
            <a:r>
              <a:rPr b="0" lang="bg-BG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агазин и ремонтна дейност</a:t>
            </a:r>
            <a:br>
              <a:rPr sz="5400"/>
            </a:b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456840" y="3900240"/>
            <a:ext cx="8147160" cy="26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336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marL="6336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 u="sng">
                <a:solidFill>
                  <a:srgbClr val="424456"/>
                </a:solidFill>
                <a:uFillTx/>
                <a:latin typeface="Times New Roman"/>
                <a:ea typeface="Times New Roman"/>
              </a:rPr>
              <a:t>Изготвили</a:t>
            </a:r>
            <a:r>
              <a:rPr b="1" lang="en-US" sz="18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6336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Любомир Попов фн.71196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6336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6336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Петко Петков фн.71082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6336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Georgia"/>
            </a:endParaRPr>
          </a:p>
          <a:p>
            <a:pPr marL="6336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0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marL="6336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marL="6336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marL="6336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marL="6336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marL="6336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marL="6336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0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София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marL="6336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0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2011 година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16" name="Picture 5" descr=""/>
          <p:cNvPicPr/>
          <p:nvPr/>
        </p:nvPicPr>
        <p:blipFill>
          <a:blip r:embed="rId1"/>
          <a:stretch/>
        </p:blipFill>
        <p:spPr>
          <a:xfrm>
            <a:off x="4284720" y="5214960"/>
            <a:ext cx="573120" cy="6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424456"/>
                </a:solidFill>
                <a:latin typeface="Trebuchet MS"/>
              </a:rPr>
              <a:t>Основни етапи</a:t>
            </a:r>
            <a:br>
              <a:rPr sz="3600"/>
            </a:b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Georgia"/>
              </a:rPr>
              <a:t>Проектиране на модули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Georgia"/>
              </a:rPr>
              <a:t>Изграждане на прототип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Georgia"/>
              </a:rPr>
              <a:t>Интегриране на системата/сайта  на клиента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Georgia"/>
              </a:rPr>
              <a:t>Интеграция на центъра за поддръжка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19" name="Picture 5" descr=""/>
          <p:cNvPicPr/>
          <p:nvPr/>
        </p:nvPicPr>
        <p:blipFill>
          <a:blip r:embed="rId1"/>
          <a:stretch/>
        </p:blipFill>
        <p:spPr>
          <a:xfrm>
            <a:off x="34920" y="6211800"/>
            <a:ext cx="498600" cy="6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000" spc="-1" strike="noStrike">
                <a:solidFill>
                  <a:srgbClr val="424456"/>
                </a:solidFill>
                <a:latin typeface="Trebuchet MS"/>
              </a:rPr>
              <a:t>Основни етапи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Georgia"/>
              </a:rPr>
              <a:t>Тестване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Georgia"/>
              </a:rPr>
              <a:t>Набиране на клиенти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Georgia"/>
              </a:rPr>
              <a:t>Пускане на системата в реално време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22" name="Picture 5" descr=""/>
          <p:cNvPicPr/>
          <p:nvPr/>
        </p:nvPicPr>
        <p:blipFill>
          <a:blip r:embed="rId1"/>
          <a:stretch/>
        </p:blipFill>
        <p:spPr>
          <a:xfrm>
            <a:off x="34920" y="6211800"/>
            <a:ext cx="498600" cy="6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571320"/>
            <a:ext cx="822960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Gantt </a:t>
            </a:r>
            <a:r>
              <a:rPr b="1" lang="bg-BG" sz="36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диаграма</a:t>
            </a:r>
            <a:br>
              <a:rPr sz="3600"/>
            </a:b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1571400"/>
            <a:ext cx="6757920" cy="500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25" name="Picture 5" descr=""/>
          <p:cNvPicPr/>
          <p:nvPr/>
        </p:nvPicPr>
        <p:blipFill>
          <a:blip r:embed="rId1"/>
          <a:stretch/>
        </p:blipFill>
        <p:spPr>
          <a:xfrm>
            <a:off x="41400" y="6211800"/>
            <a:ext cx="498240" cy="60192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3" descr="D:\Lyubo\pics\scn\capture_002_23112011_095432.jpg"/>
          <p:cNvPicPr/>
          <p:nvPr/>
        </p:nvPicPr>
        <p:blipFill>
          <a:blip r:embed="rId2"/>
          <a:stretch/>
        </p:blipFill>
        <p:spPr>
          <a:xfrm>
            <a:off x="714240" y="1143000"/>
            <a:ext cx="8143920" cy="551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457200" y="2249640"/>
            <a:ext cx="8229600" cy="432432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5" descr=""/>
          <p:cNvPicPr/>
          <p:nvPr/>
        </p:nvPicPr>
        <p:blipFill>
          <a:blip r:embed="rId2"/>
          <a:stretch/>
        </p:blipFill>
        <p:spPr>
          <a:xfrm>
            <a:off x="34920" y="6211800"/>
            <a:ext cx="498600" cy="60192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3" descr="D:\Lyubo\pics\scn\capture_004_23112011_095746.jpg"/>
          <p:cNvPicPr/>
          <p:nvPr/>
        </p:nvPicPr>
        <p:blipFill>
          <a:blip r:embed="rId3"/>
          <a:stretch/>
        </p:blipFill>
        <p:spPr>
          <a:xfrm>
            <a:off x="1071720" y="857160"/>
            <a:ext cx="6742080" cy="56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PERT </a:t>
            </a:r>
            <a:r>
              <a:rPr b="0" lang="bg-BG" sz="3600" spc="-1" strike="noStrike">
                <a:solidFill>
                  <a:srgbClr val="424456"/>
                </a:solidFill>
                <a:latin typeface="Trebuchet MS"/>
              </a:rPr>
              <a:t>диаграма</a:t>
            </a:r>
            <a:br>
              <a:rPr sz="3600"/>
            </a:b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32" name="Content Placeholder 3" descr="D:\Lyubo\uni\upro\sPERT chart.jpg"/>
          <p:cNvPicPr/>
          <p:nvPr/>
        </p:nvPicPr>
        <p:blipFill>
          <a:blip r:embed="rId1"/>
          <a:stretch/>
        </p:blipFill>
        <p:spPr>
          <a:xfrm>
            <a:off x="996840" y="2249640"/>
            <a:ext cx="7150320" cy="432432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5" descr=""/>
          <p:cNvPicPr/>
          <p:nvPr/>
        </p:nvPicPr>
        <p:blipFill>
          <a:blip r:embed="rId2"/>
          <a:stretch/>
        </p:blipFill>
        <p:spPr>
          <a:xfrm>
            <a:off x="34920" y="6211800"/>
            <a:ext cx="498600" cy="6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857160"/>
            <a:ext cx="822960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ВЪПРОСИ ?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35" name="Picture 2" descr=""/>
          <p:cNvPicPr/>
          <p:nvPr/>
        </p:nvPicPr>
        <p:blipFill>
          <a:blip r:embed="rId1"/>
          <a:stretch/>
        </p:blipFill>
        <p:spPr>
          <a:xfrm>
            <a:off x="1428840" y="2471760"/>
            <a:ext cx="5715000" cy="402912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5" descr=""/>
          <p:cNvPicPr/>
          <p:nvPr/>
        </p:nvPicPr>
        <p:blipFill>
          <a:blip r:embed="rId2"/>
          <a:stretch/>
        </p:blipFill>
        <p:spPr>
          <a:xfrm>
            <a:off x="34920" y="6211800"/>
            <a:ext cx="498600" cy="6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8T15:49:23Z</dcterms:created>
  <dc:creator>Mariana</dc:creator>
  <dc:description/>
  <dc:language>en-US</dc:language>
  <cp:lastModifiedBy>Bla</cp:lastModifiedBy>
  <dcterms:modified xsi:type="dcterms:W3CDTF">2011-11-23T08:14:00Z</dcterms:modified>
  <cp:revision>67</cp:revision>
  <dc:subject/>
  <dc:title>DSL ТЕХНОЛОГИЯ</dc:title>
</cp:coreProperties>
</file>