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DE14-7C1D-4D52-AB99-C564F3A9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BD88-F918-48D2-B5BD-5C35EA81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FF66-369E-4483-AEFC-C6CF13BD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F3FC-F651-4EE1-8387-B84CD1314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7F1E-431A-4752-812A-E152ED5B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A2EC-FC5E-4595-80C4-0166C128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C2D3-AB16-4B20-BDD2-7B34F91C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DEE1-BFB8-41C9-99FF-C80B98FA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A528-8C25-456D-A22B-23BC929B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CD62-64CC-444C-B6FE-AC1687D0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666C-5AE3-4270-BE3E-81977DFB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A692-8F60-4447-AD15-8EF74317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763F-0E5E-4E40-B3F2-2E17B7DD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C64A-53E0-4A2E-A41D-A7CAB6A8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F5E7-D38F-4F4C-84E6-E28EEFE1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4F06-6CCC-4392-A929-814BFC6B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32B0-461B-4655-98F0-60BB3BE2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D4FB7-5C56-4CBF-871F-A95F0BCA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7063C1-CD92-49D5-9E86-56B153E5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9C3B28-7BD6-486C-8C18-1EAC4E42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718F7-C5CF-4B86-9AFA-71B1A9ED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22D509-E470-4034-9FD2-3CCF7235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F93-4592-4CFD-9AAD-83B44C92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47958-7A32-4FE0-A26F-D86C2526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3A75DE-BAA7-4314-B1A5-874F03A0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E63175-851E-4C74-B307-55379A86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5162C-570B-4FC3-B081-1ABE3141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EF8AAD-F0C8-4FC9-B735-0D27D8B3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C1D4F-0BC7-4E5C-8F8E-16BD8387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3333F-3805-4CE7-9040-B0EA1098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7784F-7562-464A-851C-77359E56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C2EAD-E609-48FD-A4D4-0F8D2FCA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10E1A-B3DB-43A7-805A-F8E89450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B66-47EF-494D-B0A1-7E3127C1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E21B8-0182-449B-815A-9E9F30C0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C9D00-AF7B-4100-8C1D-96BE8294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ACAF1-DF64-4A87-9178-063BD27B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9A3F9-A9D1-4A0D-AA81-14515CD4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FDB2A-D9D5-48CF-8EC9-8F9AB728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887A4-9EEE-4446-81AD-04ACA9EB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18786-0F43-4968-A0F5-5D094126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83B08-C6E1-4DA2-BB36-A4B78AE4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FB11C-315F-4A3C-9065-EC56B0C7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1C56-1323-4BE2-8306-E7B243BC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E20-3BBB-43D2-A0F7-6AD6E729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A2C7-EE7D-4090-864E-061F4D75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7341-53B4-4050-BD81-B1FFD932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16A6-6FD9-4F11-A299-B015C844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D604-E693-4B1A-8BDF-BA2DB18068BD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авоъгъл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авоъгъл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авоъгъл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авоъгъл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авоъгъл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Закръглен правоъгъл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Закръглен правоъгъл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авоъгъл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авоъгъл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авоъгъл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авоъгъл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C188-8D98-4315-9AAC-E29109BA3CF8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6F14-0E50-4701-9A3C-C013B4E7691C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10A6-BFC3-4F3E-A731-AB4FD6604C1E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47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писание на проект </a:t>
            </a:r>
            <a:br>
              <a:rPr sz="5400"/>
            </a:br>
            <a:r>
              <a:rPr b="0" lang="bg-BG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азин и ремонтна дейност</a:t>
            </a:r>
            <a:br>
              <a:rPr sz="54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240"/>
            <a:ext cx="814716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424456"/>
                </a:solidFill>
                <a:uFillTx/>
                <a:latin typeface="Times New Roman"/>
                <a:ea typeface="Times New Roman"/>
              </a:rPr>
              <a:t>Изготвили</a:t>
            </a:r>
            <a:r>
              <a:rPr b="1" lang="en-US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Любомир Попов фн.7119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етко Петков фн.7108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офия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2011 година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4284720" y="5214960"/>
            <a:ext cx="5731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424456"/>
                </a:solidFill>
                <a:latin typeface="Trebuchet MS"/>
              </a:rPr>
              <a:t>Основни етапи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Проектиране на модул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зграждане на прототип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нтегриране на системата/сайта  на клиен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нтеграция на центъра за поддръж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424456"/>
                </a:solidFill>
                <a:latin typeface="Trebuchet MS"/>
              </a:rPr>
              <a:t>Основни етап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Тестван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Набиране на клиен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Пускане на системата в реално врем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Gantt </a:t>
            </a:r>
            <a:r>
              <a:rPr b="1" lang="bg-BG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иаграм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71400"/>
            <a:ext cx="67579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41400" y="6211800"/>
            <a:ext cx="498240" cy="601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D:\Lyubo\pics\scn\capture_002_23112011_095432.jpg"/>
          <p:cNvPicPr/>
          <p:nvPr/>
        </p:nvPicPr>
        <p:blipFill>
          <a:blip r:embed="rId2"/>
          <a:stretch/>
        </p:blipFill>
        <p:spPr>
          <a:xfrm>
            <a:off x="714240" y="1143000"/>
            <a:ext cx="81439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D:\Lyubo\pics\scn\capture_004_23112011_095746.jpg"/>
          <p:cNvPicPr/>
          <p:nvPr/>
        </p:nvPicPr>
        <p:blipFill>
          <a:blip r:embed="rId3"/>
          <a:stretch/>
        </p:blipFill>
        <p:spPr>
          <a:xfrm>
            <a:off x="1071720" y="857160"/>
            <a:ext cx="674208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PERT </a:t>
            </a:r>
            <a:r>
              <a:rPr b="0" lang="bg-BG" sz="3600" spc="-1" strike="noStrike">
                <a:solidFill>
                  <a:srgbClr val="424456"/>
                </a:solidFill>
                <a:latin typeface="Trebuchet MS"/>
              </a:rPr>
              <a:t>диаграм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Content Placeholder 3" descr="D:\Lyubo\uni\upro\sPERT chart.jpg"/>
          <p:cNvPicPr/>
          <p:nvPr/>
        </p:nvPicPr>
        <p:blipFill>
          <a:blip r:embed="rId1"/>
          <a:stretch/>
        </p:blipFill>
        <p:spPr>
          <a:xfrm>
            <a:off x="996840" y="2249640"/>
            <a:ext cx="7150320" cy="4324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ЪПРОСИ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1428840" y="2471760"/>
            <a:ext cx="5715000" cy="4029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5:49:23Z</dcterms:created>
  <dc:creator>Mariana</dc:creator>
  <dc:description/>
  <dc:language>en-US</dc:language>
  <cp:lastModifiedBy>Bla</cp:lastModifiedBy>
  <dcterms:modified xsi:type="dcterms:W3CDTF">2011-11-23T08:14:00Z</dcterms:modified>
  <cp:revision>67</cp:revision>
  <dc:subject/>
  <dc:title>DSL ТЕХНОЛОГИЯ</dc:title>
</cp:coreProperties>
</file>