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172F-EE13-4CBF-A67C-A2A7B899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9BF0-267D-4040-8A8E-63530E35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C20-8EF9-4896-B380-69EAFFCA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E4A9-4BB3-4942-886D-699DEA7F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FA01-7834-4096-8B7E-724569F6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BF19-E1C8-4640-80E9-A1DB578D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03C9-D476-44D8-8FEC-867E2AB9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3ABC-8AE1-46A7-A3EC-5C28826E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7E55-6DE5-42C4-A2DB-B47B8104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31A5-F15F-4331-B233-E16FEBEC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062A-BD5C-4711-9DB3-8086E7EB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ADE1-8451-4E10-A20D-7DFF5AB8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E876-14C0-4CBC-B77F-27964C8A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1E41-DE4B-48F7-B021-149A238F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8270-2535-4D03-A81B-2D03A126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B84F-24A0-4767-A701-F1041BA2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9F27-08F3-44E8-AC6A-45A0DC44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2BE19-304C-48B2-B97D-6C5FA560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CA489-2503-41CB-801D-F89DE2FD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10927-1E7E-40B5-8C29-1491DB56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3BF85-1863-499C-9BF5-1A2B3AC4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2B23CC-DA50-4441-9ED1-9AE89736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77A4-45BB-4C3D-B1FB-4946FDE5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05213-BD03-4CAD-9B46-25D0CEA5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C6B1B-681B-40C2-AF45-ECA00F4F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CDD6F-8C14-446F-9E51-11821594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8868A-ED76-4AA5-8AC5-23E0A0D6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189E9-D76B-453E-9DAF-D0E35A4B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15F8D-7265-47A9-9494-7BF25C71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FCC6C-B28D-412C-BB79-1041AF86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2BFD2-1F3D-4B01-BECB-044E5658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A2A52-DCFD-406F-B67D-99886EF9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D4EF4-CDCA-4025-850F-088DCEA1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0A10-E3F0-488A-A071-DD58D384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21186-19A9-4FC8-AAF2-1E02EA26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9ECA1-388E-4FA3-BAE3-DC9B0079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07E3E-1719-43F0-A21A-46A4A917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8373C-B3C4-4BC3-A576-AA07701F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F6472-699E-4005-8A03-43307189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F4482-0694-4428-91AB-1A4F7AE1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7DC7C-CBCC-4DA2-82FC-197D2514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BCD62-9A4F-40A1-AE4A-1FE4E17B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BF6F4-6C46-43FE-B4A4-804A98FF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235-EEEA-4427-9C45-60B90F79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B0EB-C59B-4F0E-8E54-C5CC6781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090-CE18-40B5-B492-DADB3302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F55D-4DCA-448F-9854-70382E08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E2D8-7654-49A9-9552-B694A2AE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D86D-0058-4D50-B2DB-01AE5AE7BD0A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авоъгъл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авоъгъл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авоъгъл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авоъгъл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авоъгъл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Закръглен правоъгъл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Закръглен правоъгъл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авоъгъл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авоъгъл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авоъгъл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авоъгъл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42BC-A6EC-4DD5-8AE5-C1D5ED71F34A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44AA-4852-41C0-A106-A15DF9723887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42D0-5D55-4920-864E-BBFF0886FFF3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47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писание на проект </a:t>
            </a:r>
            <a:br>
              <a:rPr sz="5400"/>
            </a:br>
            <a:r>
              <a:rPr b="0" lang="bg-BG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азин и ремонтна дейност</a:t>
            </a:r>
            <a:br>
              <a:rPr sz="54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240"/>
            <a:ext cx="814716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424456"/>
                </a:solidFill>
                <a:uFillTx/>
                <a:latin typeface="Times New Roman"/>
                <a:ea typeface="Times New Roman"/>
              </a:rPr>
              <a:t>Изготвили</a:t>
            </a:r>
            <a:r>
              <a:rPr b="1" lang="en-US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Любомир Попов фн.7119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етко Петков фн.7108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офия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2011 годин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4284720" y="5214960"/>
            <a:ext cx="5731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424456"/>
                </a:solidFill>
                <a:latin typeface="Trebuchet MS"/>
              </a:rPr>
              <a:t>Основни етапи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Проектиране на модул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зграждане на прототип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нтегриране на системата/сайта  на клиен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нтеграция на центъра за поддръж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424456"/>
                </a:solidFill>
                <a:latin typeface="Trebuchet MS"/>
              </a:rPr>
              <a:t>Основни етап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Тестван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Набиране на клиен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Пускане на системата в реално врем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Gantt </a:t>
            </a:r>
            <a:r>
              <a:rPr b="1" lang="bg-BG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иаграм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71400"/>
            <a:ext cx="67579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41400" y="6211800"/>
            <a:ext cx="498240" cy="601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D:\Lyubo\pics\scn\capture_002_23112011_095432.jpg"/>
          <p:cNvPicPr/>
          <p:nvPr/>
        </p:nvPicPr>
        <p:blipFill>
          <a:blip r:embed="rId2"/>
          <a:stretch/>
        </p:blipFill>
        <p:spPr>
          <a:xfrm>
            <a:off x="714240" y="1143000"/>
            <a:ext cx="81439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D:\Lyubo\pics\scn\capture_004_23112011_095746.jpg"/>
          <p:cNvPicPr/>
          <p:nvPr/>
        </p:nvPicPr>
        <p:blipFill>
          <a:blip r:embed="rId3"/>
          <a:stretch/>
        </p:blipFill>
        <p:spPr>
          <a:xfrm>
            <a:off x="1071720" y="857160"/>
            <a:ext cx="674208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PERT </a:t>
            </a:r>
            <a:r>
              <a:rPr b="0" lang="bg-BG" sz="3600" spc="-1" strike="noStrike">
                <a:solidFill>
                  <a:srgbClr val="424456"/>
                </a:solidFill>
                <a:latin typeface="Trebuchet MS"/>
              </a:rPr>
              <a:t>диаграм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Content Placeholder 3" descr="D:\Lyubo\uni\upro\sPERT chart.jpg"/>
          <p:cNvPicPr/>
          <p:nvPr/>
        </p:nvPicPr>
        <p:blipFill>
          <a:blip r:embed="rId1"/>
          <a:stretch/>
        </p:blipFill>
        <p:spPr>
          <a:xfrm>
            <a:off x="996840" y="2249640"/>
            <a:ext cx="7150320" cy="4324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ЪПРОСИ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1428840" y="2471760"/>
            <a:ext cx="5715000" cy="4029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5:49:23Z</dcterms:created>
  <dc:creator>Mariana</dc:creator>
  <dc:description/>
  <dc:language>en-US</dc:language>
  <cp:lastModifiedBy>Bla</cp:lastModifiedBy>
  <dcterms:modified xsi:type="dcterms:W3CDTF">2011-11-23T08:14:00Z</dcterms:modified>
  <cp:revision>67</cp:revision>
  <dc:subject/>
  <dc:title>DSL ТЕХНОЛОГИЯ</dc:title>
</cp:coreProperties>
</file>