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26BF-B00D-4364-BA7B-F9A27814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CE2-F6D2-414E-9730-B0E37D7A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99A-4EDC-4DE4-88AA-17F8C8B63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8B38-7B17-4762-A3E5-AE0C0C151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3593-C52B-4D0C-895E-89B754A7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F24AB-FF48-4A7E-91A8-58803A3E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DCC3-83C8-423A-AFE0-56DA3ACCA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0CD0-46EE-4D5D-84C8-9ECB05E13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BFE4C-73A7-4DF6-9B83-26CD528F5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653D-8B1D-49D4-A82B-5539A6D06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58712-A04C-4F3D-9CC7-7E246E865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DC2C-4970-4B26-8C76-4EDA9DA0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D4B5-9D95-40A4-BBB5-7245D94E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B9AE-AFF2-4ECC-B6C4-3A85E836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E4D9-0DD5-47D0-9243-56965F8A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D0E06-B5EC-4358-8AF5-DB7B3AC92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3B8D-879D-4BBD-A15D-C55536F8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0E3A71-08E7-48C2-A029-E6D2128B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D270C7-0583-4681-A677-D4898EF49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F58677-6163-48E9-B2FD-F88D3CBED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DFC4B9-1264-4D5C-81D5-7AC5488C9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0C13C0-2EEE-43F5-AB62-8EA977B4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7C73-EE19-489E-A83A-F3B578812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46CDD5-5385-43B5-B44F-102BFDD4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24F3C-12E8-46E1-A1DA-D7498868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FAC902-8C48-4998-ADA0-D18F4BE27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64410B-BFFA-498A-9D68-3BD73A42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B81575-98D2-4B62-9D99-8B31C105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E2EF95-9EAE-4DF9-805E-7950F7FA8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C714F3-8729-464D-8821-C0E9AEEA1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42698-1A53-42C6-B4DA-83518D124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91E5-9550-42D8-87B3-87017A666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5861A-B14F-4B78-9560-7F18DB1A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3A03-5853-44CA-9C12-4508ED3DF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F2758-80BE-40CC-838C-7F0439D93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EDA29-4CA9-42EE-9CE1-7052CA09B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34206-89BF-4B43-B7EB-4E302331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53B26-85CC-4C0B-BC74-9F096D7E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0B4DC-0982-40D2-9058-2B008C38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6E66F-AC76-41A2-900C-FA6DC3ABE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D0B4A-8482-4F1C-A0FE-5F7BB6B8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13AEC-E0DD-4929-B53D-096D5B1A5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58235D-E526-4AFF-807B-56457AA9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62D-E49D-4558-9445-9390925D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0623-71DD-4F2F-98FE-07DA604A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743-4AB8-4C89-A9AF-F1D32DEE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D57D-E33A-467C-AD65-54E769DA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25D6-58BB-4644-940E-884FC7BA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5F4A-E383-454E-82FD-1EFB02E77B63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авоъгъл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авоъгъл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авоъгъл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Правоъгъл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Правоъгъл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Закръглен правоъгъл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Закръглен правоъгъл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Правоъгъл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Правоъгъл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Правоъгъл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Правоъгъл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FDFB6-1AB9-4474-AC90-5F3B83327507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7D60-8C86-49B6-9CAE-53ABDE2E2BC1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авоъгъл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Правоъгъл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Правоъгъл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Правоъгъл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Правоъгъл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Закръглен правоъгъл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Закръглен правоъгъл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Правоъгъл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Правоъгъл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Правоъгъл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Правоъгъл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Правоъгъл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Правоъгъл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AF715-F2E1-4C30-8DF8-E37FE1601CF9}" type="slidenum">
              <a:rPr b="0" lang="bg-B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692280"/>
            <a:ext cx="8472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писание на проект </a:t>
            </a:r>
            <a:br>
              <a:rPr sz="5400"/>
            </a:br>
            <a:r>
              <a:rPr b="0" lang="bg-BG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газин и ремонтна дейност</a:t>
            </a:r>
            <a:br>
              <a:rPr sz="54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6840" y="3900240"/>
            <a:ext cx="8147160" cy="26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 u="sng">
                <a:solidFill>
                  <a:srgbClr val="424456"/>
                </a:solidFill>
                <a:uFillTx/>
                <a:latin typeface="Times New Roman"/>
                <a:ea typeface="Times New Roman"/>
              </a:rPr>
              <a:t>Изготвили</a:t>
            </a:r>
            <a:r>
              <a:rPr b="1" lang="en-US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Любомир Попов фн.71196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Петко Петков фн.71082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София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2011 година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6" name="Picture 5" descr=""/>
          <p:cNvPicPr/>
          <p:nvPr/>
        </p:nvPicPr>
        <p:blipFill>
          <a:blip r:embed="rId1"/>
          <a:stretch/>
        </p:blipFill>
        <p:spPr>
          <a:xfrm>
            <a:off x="4284720" y="5214960"/>
            <a:ext cx="57312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роектиране на модул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зграждане на прототип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иране на системата/сайта  на клиент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Интеграция на центъра за поддръж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19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4000" spc="-1" strike="noStrike">
                <a:solidFill>
                  <a:srgbClr val="424456"/>
                </a:solidFill>
                <a:latin typeface="Trebuchet MS"/>
              </a:rPr>
              <a:t>Основни етапи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Тестван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Набиране на клиент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2800" spc="-1" strike="noStrike">
                <a:solidFill>
                  <a:srgbClr val="000000"/>
                </a:solidFill>
                <a:latin typeface="Georgia"/>
              </a:rPr>
              <a:t>Пускане на системата в реално врем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Gantt </a:t>
            </a:r>
            <a:r>
              <a:rPr b="1" lang="bg-BG" sz="36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71400"/>
            <a:ext cx="6757920" cy="50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5" name="Picture 5" descr=""/>
          <p:cNvPicPr/>
          <p:nvPr/>
        </p:nvPicPr>
        <p:blipFill>
          <a:blip r:embed="rId1"/>
          <a:stretch/>
        </p:blipFill>
        <p:spPr>
          <a:xfrm>
            <a:off x="41400" y="6211800"/>
            <a:ext cx="498240" cy="601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3" descr="D:\Lyubo\pics\scn\capture_002_23112011_095432.jpg"/>
          <p:cNvPicPr/>
          <p:nvPr/>
        </p:nvPicPr>
        <p:blipFill>
          <a:blip r:embed="rId2"/>
          <a:stretch/>
        </p:blipFill>
        <p:spPr>
          <a:xfrm>
            <a:off x="714240" y="1143000"/>
            <a:ext cx="8143920" cy="55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457200" y="2249640"/>
            <a:ext cx="8229600" cy="4324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D:\Lyubo\pics\scn\capture_004_23112011_095746.jpg"/>
          <p:cNvPicPr/>
          <p:nvPr/>
        </p:nvPicPr>
        <p:blipFill>
          <a:blip r:embed="rId3"/>
          <a:stretch/>
        </p:blipFill>
        <p:spPr>
          <a:xfrm>
            <a:off x="1071720" y="857160"/>
            <a:ext cx="6742080" cy="56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ERT </a:t>
            </a:r>
            <a:r>
              <a:rPr b="0" lang="bg-BG" sz="3600" spc="-1" strike="noStrike">
                <a:solidFill>
                  <a:srgbClr val="424456"/>
                </a:solidFill>
                <a:latin typeface="Trebuchet MS"/>
              </a:rPr>
              <a:t>диаграма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2" name="Content Placeholder 3" descr="D:\Lyubo\uni\upro\sPERT chart.jpg"/>
          <p:cNvPicPr/>
          <p:nvPr/>
        </p:nvPicPr>
        <p:blipFill>
          <a:blip r:embed="rId1"/>
          <a:stretch/>
        </p:blipFill>
        <p:spPr>
          <a:xfrm>
            <a:off x="996840" y="2249640"/>
            <a:ext cx="7150320" cy="43243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4000" spc="-1" strike="noStrike">
                <a:solidFill>
                  <a:srgbClr val="424456"/>
                </a:solidFill>
                <a:latin typeface="Times New Roman"/>
                <a:ea typeface="Times New Roman"/>
              </a:rPr>
              <a:t>ВЪПРОСИ ?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35" name="Picture 2" descr=""/>
          <p:cNvPicPr/>
          <p:nvPr/>
        </p:nvPicPr>
        <p:blipFill>
          <a:blip r:embed="rId1"/>
          <a:stretch/>
        </p:blipFill>
        <p:spPr>
          <a:xfrm>
            <a:off x="1428840" y="2471760"/>
            <a:ext cx="5715000" cy="40291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"/>
          <p:cNvPicPr/>
          <p:nvPr/>
        </p:nvPicPr>
        <p:blipFill>
          <a:blip r:embed="rId2"/>
          <a:stretch/>
        </p:blipFill>
        <p:spPr>
          <a:xfrm>
            <a:off x="34920" y="6211800"/>
            <a:ext cx="498600" cy="6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8T15:49:23Z</dcterms:created>
  <dc:creator>Mariana</dc:creator>
  <dc:description/>
  <dc:language>en-US</dc:language>
  <cp:lastModifiedBy>Bla</cp:lastModifiedBy>
  <dcterms:modified xsi:type="dcterms:W3CDTF">2011-11-23T08:14:00Z</dcterms:modified>
  <cp:revision>67</cp:revision>
  <dc:subject/>
  <dc:title>DSL ТЕХНОЛОГИЯ</dc:title>
</cp:coreProperties>
</file>