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09E0-2993-4C71-95AB-832A97B9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C6FA-EBCA-42C9-9F49-D922406C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9E14-5780-437C-BA7B-B32E09B7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4628-59BD-455D-A9E5-41A4A72A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028E-E006-48B2-9841-58629670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B4D9-11F9-4AB5-A579-2A8CF024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52C6-509E-45B0-B65E-EB6D401B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4062-F5B1-4A61-A5E0-1946FA49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6879-A0FD-4F9F-8751-2407A8B7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243E-B907-4437-AF16-18D9B71A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705C-ABB5-4999-A4D8-5D7F7822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BEFE-ACBF-4CCF-8EFE-CB3BE7F1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FBCF-A334-41D9-9212-A99198AC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FBCF-75EB-4661-B243-E8C09312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A6C8-35F2-4CEA-9BE2-C968ECDF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A012-B001-4E5D-9450-DA2C1BD5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1409-3ABA-417C-96D0-700C1B0D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98DC8A-71D0-418E-8E04-44A80680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CA932B-2BA4-4E70-82D8-53C29D61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475828-948E-4898-AB23-51A04664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E09A9B-F01C-4F3E-99F7-7031E542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EA146-9ABE-4A50-BA93-C3C319E6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8322-62A5-4517-96E7-8CA83B50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D658F5-E085-4C3E-8F48-EC45534A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EFA4B-31D5-49AB-83F0-879C0EC8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84DFDD-31C4-4791-A11E-9541E7F1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AACED6-F4AB-4E43-9ECE-F1C09CC0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68F71E-67DB-4F0D-8752-A7D6E419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884CA4-A25A-4AFB-8ED0-2E39BBBC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67E483-F6B4-4D49-A682-28E896BA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90398-5182-4B26-8BC0-1B20DE9A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32900-AF64-4FEA-B664-E17D130D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5CB4C-6BE3-4EB6-A682-19875A06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259-1D13-4230-8573-A6149853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31C26-761D-4A5E-A1C1-16B14FD0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18235-B512-48B4-B626-D342C2EA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59FB9-184D-4E99-A98A-B385BFC4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DCDEF-FC5B-4272-819D-9184A991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8AAD9-9A02-484D-94A2-52205EF1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F7D2A-4FC6-4539-8A76-1A99CDF7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53B9B-347C-4D4D-8AFC-50CAA6CE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25568-11BC-4AB6-BC38-99B5E491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30AC9-82E8-4A1E-B431-720FFB1A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5226-EBE3-448F-9B48-8C7D1382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B281-9927-418D-A46E-9E050955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2A51-CA3C-4488-BEA5-65DF4E1D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C6B2-F512-4F96-AE11-C51B47E9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420A-A7E9-4B61-9E36-18AF1303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7C6F-3E0A-40CA-9B1F-29929B8792E4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авоъгъл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авоъгъл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авоъгъл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авоъгъл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авоъгъл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Закръглен правоъгъл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Закръглен правоъгъл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авоъгъл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авоъгъл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авоъгъл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авоъгъл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587E-32CB-4835-A44A-595FCFB1CAB4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C9CC-B7D6-4C98-A81C-16E0CC4493F7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9CA7-EB8F-4A19-B985-A48D722AFAFC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47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писание на проект </a:t>
            </a:r>
            <a:br>
              <a:rPr sz="5400"/>
            </a:br>
            <a:r>
              <a:rPr b="0" lang="bg-BG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азин и ремонтна дейност</a:t>
            </a:r>
            <a:br>
              <a:rPr sz="54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3900240"/>
            <a:ext cx="814716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424456"/>
                </a:solidFill>
                <a:uFillTx/>
                <a:latin typeface="Times New Roman"/>
                <a:ea typeface="Times New Roman"/>
              </a:rPr>
              <a:t>Изготвили</a:t>
            </a:r>
            <a:r>
              <a:rPr b="1" lang="en-US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Любомир Попов фн.7119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етко Петков фн.7108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София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2011 година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4284720" y="5214960"/>
            <a:ext cx="5731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424456"/>
                </a:solidFill>
                <a:latin typeface="Trebuchet MS"/>
              </a:rPr>
              <a:t>Основни етапи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Проектиране на модул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зграждане на прототип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нтегриране на системата/сайта  на клиен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нтеграция на центъра за поддръж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424456"/>
                </a:solidFill>
                <a:latin typeface="Trebuchet MS"/>
              </a:rPr>
              <a:t>Основни етап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Тестван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Набиране на клиен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Пускане на системата в реално врем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Gantt </a:t>
            </a:r>
            <a:r>
              <a:rPr b="1" lang="bg-BG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иаграма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71400"/>
            <a:ext cx="67579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41400" y="6211800"/>
            <a:ext cx="498240" cy="601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D:\Lyubo\pics\scn\capture_002_23112011_095432.jpg"/>
          <p:cNvPicPr/>
          <p:nvPr/>
        </p:nvPicPr>
        <p:blipFill>
          <a:blip r:embed="rId2"/>
          <a:stretch/>
        </p:blipFill>
        <p:spPr>
          <a:xfrm>
            <a:off x="714240" y="1143000"/>
            <a:ext cx="814392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D:\Lyubo\pics\scn\capture_004_23112011_095746.jpg"/>
          <p:cNvPicPr/>
          <p:nvPr/>
        </p:nvPicPr>
        <p:blipFill>
          <a:blip r:embed="rId3"/>
          <a:stretch/>
        </p:blipFill>
        <p:spPr>
          <a:xfrm>
            <a:off x="1071720" y="857160"/>
            <a:ext cx="674208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PERT </a:t>
            </a:r>
            <a:r>
              <a:rPr b="0" lang="bg-BG" sz="3600" spc="-1" strike="noStrike">
                <a:solidFill>
                  <a:srgbClr val="424456"/>
                </a:solidFill>
                <a:latin typeface="Trebuchet MS"/>
              </a:rPr>
              <a:t>диаграма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Content Placeholder 3" descr="D:\Lyubo\uni\upro\sPERT chart.jpg"/>
          <p:cNvPicPr/>
          <p:nvPr/>
        </p:nvPicPr>
        <p:blipFill>
          <a:blip r:embed="rId1"/>
          <a:stretch/>
        </p:blipFill>
        <p:spPr>
          <a:xfrm>
            <a:off x="996840" y="2249640"/>
            <a:ext cx="7150320" cy="4324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ЪПРОСИ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1428840" y="2471760"/>
            <a:ext cx="5715000" cy="4029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5:49:23Z</dcterms:created>
  <dc:creator>Mariana</dc:creator>
  <dc:description/>
  <dc:language>en-US</dc:language>
  <cp:lastModifiedBy>Bla</cp:lastModifiedBy>
  <dcterms:modified xsi:type="dcterms:W3CDTF">2011-11-23T08:14:00Z</dcterms:modified>
  <cp:revision>67</cp:revision>
  <dc:subject/>
  <dc:title>DSL ТЕХНОЛОГИЯ</dc:title>
</cp:coreProperties>
</file>