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08FF-BE3A-4995-8C30-D8FE69D3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B1DE-4F4C-4896-813B-ACBA670A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765C-A4BA-4058-B17E-8B620D83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5E45-9139-4B99-A0E6-5353D4BEE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F6D00-B2C5-4584-9203-45DFE107E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D1E48-2D37-430F-AD98-F4680E8B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BF49-8F21-4906-A145-0C1DEAE9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C0449-0A8B-41C4-B8E5-BA929AD8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61F5-6696-4D7E-BFBE-50A1E437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CA43-1C12-4D56-9B73-9CA4E12FF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B92E3-C4BD-418F-B079-0CEB1F06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902A-1484-432A-9CF2-9842F8215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B9D67-BAF7-4449-851E-BCA3A519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EF299-815E-4A8E-9BE3-390BF728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9324-923C-4F58-A3EE-189352ED6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4454-15C2-44AA-B52C-EA52132D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F3274-B815-4E22-AF97-30C3BF7D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85C5F9-D39E-4F68-B5C4-727E30A7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92CD51-C994-428C-8FFA-8AF47F0B2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38B48E-5578-4C72-A195-C6D9CC52B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B80883-84BE-4C05-A525-E5D2A075B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485972-362F-4627-BFBF-71319D1B9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0FEC-A101-4D50-9EEA-ACC5575F2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1DF8F6-478B-41BC-BCAF-AB63867F9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CE6E54-677B-4686-8B17-D53010B4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61DDB2-0B0A-41B9-B712-0BF44FC9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CE0B79-09F3-4941-8859-1901689E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7D797D-47EE-494C-AFD2-0EC5C517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6DD38B-6514-44B7-B73B-0CC86D3D8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B9B454-6FCE-43CB-A18B-32B7E159A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694AF-4DA4-4585-81F0-F3433D3A2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1724F6-7623-4A0E-8EEE-30D7F263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2C208-CD96-48ED-8D6F-F8567B87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F234-E8F1-46FE-8AEA-74067858C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75F55-34F0-4716-AF57-B6569C2D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A9F79-16D3-4446-80FF-4078DB61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128E4-B5D1-4E21-9D84-A3A4B192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42BD6-2963-4F6B-BB64-342BC355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14F14-F132-4289-A144-E6B79246C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2DAE7-0747-4894-99CF-1C63E0D82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5D723-EFFA-4820-906A-1DD07913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CFBA6-2128-402C-AC3E-D9DC8196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7E958-9DEE-44B8-B05D-7303A3FF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A0BE-0E14-4A2E-8F99-ACE42967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8C38-6D2B-4644-BF74-848B8CA81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9472-6A31-45FA-A5B0-CDEA4918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4FD1-BEC8-4113-AB6A-EC37482C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B530-A9A5-46B5-9220-28A42E7A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B0E9-CE02-419E-9432-C53A327F4A38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авоъгъл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авоъгъл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авоъгъл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авоъгъл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авоъгъл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Закръглен правоъгъл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Закръглен правоъгъл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авоъгъл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авоъгъл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авоъгъл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авоъгъл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50D9-E353-476A-9906-C08506FFC073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3389-4B67-4FD6-AAF3-3F30EC44AF47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6E96-264D-443C-AF9C-BF5AAA25A618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47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писание на проект </a:t>
            </a:r>
            <a:br>
              <a:rPr sz="5400"/>
            </a:br>
            <a:r>
              <a:rPr b="0" lang="bg-BG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азин и ремонтна дейност</a:t>
            </a:r>
            <a:br>
              <a:rPr sz="54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3900240"/>
            <a:ext cx="814716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424456"/>
                </a:solidFill>
                <a:uFillTx/>
                <a:latin typeface="Times New Roman"/>
                <a:ea typeface="Times New Roman"/>
              </a:rPr>
              <a:t>Изготвили</a:t>
            </a:r>
            <a:r>
              <a:rPr b="1" lang="en-US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Любомир Попов фн.7119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етко Петков фн.7108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София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2011 година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4284720" y="5214960"/>
            <a:ext cx="5731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424456"/>
                </a:solidFill>
                <a:latin typeface="Trebuchet MS"/>
              </a:rPr>
              <a:t>Основни етапи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Проектиране на модул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зграждане на прототип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нтегриране на системата/сайта  на клиен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нтеграция на центъра за поддръж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424456"/>
                </a:solidFill>
                <a:latin typeface="Trebuchet MS"/>
              </a:rPr>
              <a:t>Основни етап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Тестван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Набиране на клиен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Пускане на системата в реално врем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Gantt </a:t>
            </a:r>
            <a:r>
              <a:rPr b="1" lang="bg-BG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иаграма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71400"/>
            <a:ext cx="67579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41400" y="6211800"/>
            <a:ext cx="498240" cy="601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D:\Lyubo\pics\scn\capture_002_23112011_095432.jpg"/>
          <p:cNvPicPr/>
          <p:nvPr/>
        </p:nvPicPr>
        <p:blipFill>
          <a:blip r:embed="rId2"/>
          <a:stretch/>
        </p:blipFill>
        <p:spPr>
          <a:xfrm>
            <a:off x="714240" y="1143000"/>
            <a:ext cx="814392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D:\Lyubo\pics\scn\capture_004_23112011_095746.jpg"/>
          <p:cNvPicPr/>
          <p:nvPr/>
        </p:nvPicPr>
        <p:blipFill>
          <a:blip r:embed="rId3"/>
          <a:stretch/>
        </p:blipFill>
        <p:spPr>
          <a:xfrm>
            <a:off x="1071720" y="857160"/>
            <a:ext cx="674208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PERT </a:t>
            </a:r>
            <a:r>
              <a:rPr b="0" lang="bg-BG" sz="3600" spc="-1" strike="noStrike">
                <a:solidFill>
                  <a:srgbClr val="424456"/>
                </a:solidFill>
                <a:latin typeface="Trebuchet MS"/>
              </a:rPr>
              <a:t>диаграма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Content Placeholder 3" descr="D:\Lyubo\uni\upro\sPERT chart.jpg"/>
          <p:cNvPicPr/>
          <p:nvPr/>
        </p:nvPicPr>
        <p:blipFill>
          <a:blip r:embed="rId1"/>
          <a:stretch/>
        </p:blipFill>
        <p:spPr>
          <a:xfrm>
            <a:off x="996840" y="2249640"/>
            <a:ext cx="7150320" cy="4324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ЪПРОСИ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1428840" y="2471760"/>
            <a:ext cx="5715000" cy="4029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5:49:23Z</dcterms:created>
  <dc:creator>Mariana</dc:creator>
  <dc:description/>
  <dc:language>en-US</dc:language>
  <cp:lastModifiedBy>Bla</cp:lastModifiedBy>
  <dcterms:modified xsi:type="dcterms:W3CDTF">2011-11-23T08:14:00Z</dcterms:modified>
  <cp:revision>67</cp:revision>
  <dc:subject/>
  <dc:title>DSL ТЕХНОЛОГИЯ</dc:title>
</cp:coreProperties>
</file>