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A0FB-0463-4A69-AD9E-4C5E24A2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A0B-BE3F-4F5E-8F2A-2BFB7E85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F76D-1354-4F96-ABDB-4EA2E8F1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936F-0A29-4B9E-BB57-F20FA3C8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A65B-988B-4920-B17C-B805450A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636F-CBA5-4364-A13F-36B4FB41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8BC6-A253-49C2-9C60-2DAE7CA1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FCEE-2AF7-447D-AE04-5CDD8031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65EB-6B62-43B7-B381-31B3EA76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1229-EE4E-46CF-A608-09E12739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ABE4-6DFD-4A74-8F59-2AE68FEC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8A7-D006-46BF-8668-0F0F3286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4463-843A-44BC-BC76-ABF432C1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63A8-AA8A-4158-A2F4-57131C4C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D5E7-DD79-4248-8D40-196357B9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310E-9C88-4573-AEF2-265DBC58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780B-7174-49AD-BE82-EFA24745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BF254-6F51-4648-8C99-F8A600C8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189B3-AE2D-4E66-BADA-D1401C07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1F467-623F-4859-B808-5BF5995B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03C25-510F-4A27-B59A-95FCF444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9FB28-900F-4AE6-AC35-C314A4FF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F16C-2C48-4863-B57C-439DCBF9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EFA04-DF79-4604-9EF8-421F1B96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68D699-A713-4D9B-B677-BB64A9AA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43D04-1CDC-47A8-875B-05E1513E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6F4DE-D9A6-44E6-B69E-A49439A2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9A7C1-CF60-43B2-BBE4-6C680089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AD2377-A0F1-4BA6-A4B4-BFB945C8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B70C9-19F9-4159-AAC9-B490BE63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CD97E-E435-4021-BA80-65669316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4434D-F54D-49E9-916E-51D7F098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09F0C-81BB-46A4-96C9-D981569D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C9AA-9970-4614-9AF8-BCD0DCD6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083A1-EAB2-4A63-AAE4-080FEF48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36563-1688-4D56-BFB8-094491F8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FED8B-417B-4F2C-A2A7-98C1D6DA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3917F-4F20-45CB-9126-C4948B0E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9603C-4497-49E4-999E-120E6A44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43FCD-EA38-4048-B223-3D7A6E56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0254F-B424-4079-B667-ABD68564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C8FE8-DC60-420B-8FDC-A364AD8B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C1D84-630F-4CA6-BF3C-B0E411F3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F48E-7EA6-4BE9-90B4-FA943593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8A5-0DFB-4AD5-928E-8540BD99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913-8030-43CE-8295-54308BC7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D28-DDB3-47BE-BB43-CFCCA60A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9D47-57A3-47C8-B16B-D6A8EE7E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78BD-B34E-414E-BF49-BB9E2CBF404E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авоъгъл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авоъгъл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авоъгъл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авоъгъл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авоъгъл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Закръглен правоъгъл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Закръглен правоъгъл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авоъгъл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авоъгъл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авоъгъл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авоъгъл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70EF-136A-4708-BA57-97FC9976E992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8D8E-E3B2-4A18-B551-1EE71BDEF1A3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D820-DC19-4C7B-8D2B-9AAA43ACEBD3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47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писание на проект </a:t>
            </a:r>
            <a:br>
              <a:rPr sz="5400"/>
            </a:br>
            <a:r>
              <a:rPr b="0" lang="bg-BG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азин и ремонтна дейност</a:t>
            </a:r>
            <a:br>
              <a:rPr sz="54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240"/>
            <a:ext cx="814716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424456"/>
                </a:solidFill>
                <a:uFillTx/>
                <a:latin typeface="Times New Roman"/>
                <a:ea typeface="Times New Roman"/>
              </a:rPr>
              <a:t>Изготвили</a:t>
            </a:r>
            <a:r>
              <a:rPr b="1" lang="en-US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Любомир Попов фн.7119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етко Петков фн.7108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офия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2011 годин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4284720" y="5214960"/>
            <a:ext cx="5731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424456"/>
                </a:solidFill>
                <a:latin typeface="Trebuchet MS"/>
              </a:rPr>
              <a:t>Основни етапи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Проектиране на модул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зграждане на прототип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нтегриране на системата/сайта  на клиен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нтеграция на центъра за поддръж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424456"/>
                </a:solidFill>
                <a:latin typeface="Trebuchet MS"/>
              </a:rPr>
              <a:t>Основни етап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Тестван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Набиране на клиен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Пускане на системата в реално врем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Gantt </a:t>
            </a:r>
            <a:r>
              <a:rPr b="1" lang="bg-BG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иаграм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71400"/>
            <a:ext cx="67579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41400" y="6211800"/>
            <a:ext cx="498240" cy="601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D:\Lyubo\pics\scn\capture_002_23112011_095432.jpg"/>
          <p:cNvPicPr/>
          <p:nvPr/>
        </p:nvPicPr>
        <p:blipFill>
          <a:blip r:embed="rId2"/>
          <a:stretch/>
        </p:blipFill>
        <p:spPr>
          <a:xfrm>
            <a:off x="714240" y="1143000"/>
            <a:ext cx="81439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D:\Lyubo\pics\scn\capture_004_23112011_095746.jpg"/>
          <p:cNvPicPr/>
          <p:nvPr/>
        </p:nvPicPr>
        <p:blipFill>
          <a:blip r:embed="rId3"/>
          <a:stretch/>
        </p:blipFill>
        <p:spPr>
          <a:xfrm>
            <a:off x="1071720" y="857160"/>
            <a:ext cx="674208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ERT </a:t>
            </a:r>
            <a:r>
              <a:rPr b="0" lang="bg-BG" sz="3600" spc="-1" strike="noStrike">
                <a:solidFill>
                  <a:srgbClr val="424456"/>
                </a:solidFill>
                <a:latin typeface="Trebuchet MS"/>
              </a:rPr>
              <a:t>диаграм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Content Placeholder 3" descr="D:\Lyubo\uni\upro\sPERT chart.jpg"/>
          <p:cNvPicPr/>
          <p:nvPr/>
        </p:nvPicPr>
        <p:blipFill>
          <a:blip r:embed="rId1"/>
          <a:stretch/>
        </p:blipFill>
        <p:spPr>
          <a:xfrm>
            <a:off x="996840" y="2249640"/>
            <a:ext cx="7150320" cy="4324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ЪПРОСИ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1428840" y="2471760"/>
            <a:ext cx="5715000" cy="4029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5:49:23Z</dcterms:created>
  <dc:creator>Mariana</dc:creator>
  <dc:description/>
  <dc:language>en-US</dc:language>
  <cp:lastModifiedBy>Bla</cp:lastModifiedBy>
  <dcterms:modified xsi:type="dcterms:W3CDTF">2011-11-23T08:14:00Z</dcterms:modified>
  <cp:revision>67</cp:revision>
  <dc:subject/>
  <dc:title>DSL ТЕХНОЛОГИЯ</dc:title>
</cp:coreProperties>
</file>