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EA44-534E-4425-8370-FE7D7083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1846-ED00-4AE7-BF86-03880C16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23EA-44AC-4866-B303-10999C6E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5D16-03A5-46EB-9C78-B87FE5A8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EC13-91AD-4869-8039-E35C51BF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BA07-1102-4FA5-A15C-40A70E89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84EC-CEC1-4958-BF7B-30D24C84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A5E7-433C-4546-9DAE-B12D544E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DEF8-A235-4D34-BCEC-90637662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2AB0-B599-42FC-A401-E4314649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2BD7-4D0B-4FF2-9B09-41938CE0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C82A-83EE-4197-9568-323B437B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BB15-68FD-4DCA-B17E-D0A3CDFB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6C90-F453-4A9C-9D5A-A8D72A5D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7F3A-FEF8-4149-AFDB-B66EB2B4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548C-15F6-48BE-AC9C-E797BCCC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431E-C197-43CB-8867-36133F62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2FB41C-C90A-46A3-95B5-25186D47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C8B94-1164-4704-9684-6EC79DB3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13C949-1654-4037-ACFB-695B2E24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0E60E4-8A54-4C88-9658-4D9EBC6B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ADEDA3-DE94-482C-8BB3-3F417E62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6E75-2216-4DEF-A307-D92222E0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F31278-D088-4A00-9A3F-AEDF660A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DCFB80-F9C1-4097-9BEB-B8043417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94CBEC-949E-47CA-9D39-EB5B19D6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7440BD-017F-4F51-B936-B93461DE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6393B8-52CF-4339-AF0F-2DE52A5F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558FAA-8D0D-45FE-8E51-6832983E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01AD4-148A-458A-B496-BE447D14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1312A-1EB0-4EA9-BD01-5A9D00F1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8861B-8582-4648-8215-A0A0E0A1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D4596-2914-42EE-B278-679D4A5F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2E03-5490-4115-A383-D8C565A4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50ED2-9D8C-403E-9C8F-FE609BAA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50374-ED01-49BD-B5DC-6826D947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1AC8A-9C41-425C-A08E-9DBC2053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18F58-F374-4D7C-B381-CDFC50E0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B88FA-8190-49C8-B5E1-7BB58B4D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49019-DB76-411E-8DEB-EDD9B499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4A4EC-5515-46DC-98C1-E4F183BE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48FFC-3C28-4ACF-AEDA-CB60AB31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88AD3-481B-4671-94AF-DD782B58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D4A6-25A3-4992-BBDA-4F27A6D7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E46C-3C11-4F5B-AB81-06CD8712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35A1-DC3D-4E3B-BCAB-02B34FEC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B4FE-0867-4178-9B08-A7AC842E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CCD1-0F11-4C37-B1DE-D9ED5F9B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C156-530C-484B-AC72-FD7554BB4B74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авоъгъл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авоъгъл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авоъгъл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авоъгъл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авоъгъл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Закръглен правоъгъл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Закръглен правоъгъл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авоъгъл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авоъгъл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авоъгъл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авоъгъл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957F-4F01-465A-A66B-BF7588C7912F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5E43-7769-43EB-93CB-D6885603E5C5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2BC5-D4E6-4C65-BEC7-8ECCD79FED28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47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писание на проект </a:t>
            </a:r>
            <a:br>
              <a:rPr sz="5400"/>
            </a:br>
            <a:r>
              <a:rPr b="0" lang="bg-BG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азин и ремонтна дейност</a:t>
            </a:r>
            <a:br>
              <a:rPr sz="54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3900240"/>
            <a:ext cx="814716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424456"/>
                </a:solidFill>
                <a:uFillTx/>
                <a:latin typeface="Times New Roman"/>
                <a:ea typeface="Times New Roman"/>
              </a:rPr>
              <a:t>Изготвили</a:t>
            </a:r>
            <a:r>
              <a:rPr b="1" lang="en-US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Любомир Попов фн.7119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етко Петков фн.7108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София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2011 година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4284720" y="5214960"/>
            <a:ext cx="5731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424456"/>
                </a:solidFill>
                <a:latin typeface="Trebuchet MS"/>
              </a:rPr>
              <a:t>Основни етапи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Проектиране на модул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зграждане на прототип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нтегриране на системата/сайта  на клиен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нтеграция на центъра за поддръж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424456"/>
                </a:solidFill>
                <a:latin typeface="Trebuchet MS"/>
              </a:rPr>
              <a:t>Основни етап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Тестван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Набиране на клиен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Пускане на системата в реално врем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Gantt </a:t>
            </a:r>
            <a:r>
              <a:rPr b="1" lang="bg-BG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иаграма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71400"/>
            <a:ext cx="67579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41400" y="6211800"/>
            <a:ext cx="498240" cy="601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D:\Lyubo\pics\scn\capture_002_23112011_095432.jpg"/>
          <p:cNvPicPr/>
          <p:nvPr/>
        </p:nvPicPr>
        <p:blipFill>
          <a:blip r:embed="rId2"/>
          <a:stretch/>
        </p:blipFill>
        <p:spPr>
          <a:xfrm>
            <a:off x="714240" y="1143000"/>
            <a:ext cx="814392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D:\Lyubo\pics\scn\capture_004_23112011_095746.jpg"/>
          <p:cNvPicPr/>
          <p:nvPr/>
        </p:nvPicPr>
        <p:blipFill>
          <a:blip r:embed="rId3"/>
          <a:stretch/>
        </p:blipFill>
        <p:spPr>
          <a:xfrm>
            <a:off x="1071720" y="857160"/>
            <a:ext cx="674208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PERT </a:t>
            </a:r>
            <a:r>
              <a:rPr b="0" lang="bg-BG" sz="3600" spc="-1" strike="noStrike">
                <a:solidFill>
                  <a:srgbClr val="424456"/>
                </a:solidFill>
                <a:latin typeface="Trebuchet MS"/>
              </a:rPr>
              <a:t>диаграма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Content Placeholder 3" descr="D:\Lyubo\uni\upro\sPERT chart.jpg"/>
          <p:cNvPicPr/>
          <p:nvPr/>
        </p:nvPicPr>
        <p:blipFill>
          <a:blip r:embed="rId1"/>
          <a:stretch/>
        </p:blipFill>
        <p:spPr>
          <a:xfrm>
            <a:off x="996840" y="2249640"/>
            <a:ext cx="7150320" cy="4324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ЪПРОСИ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1428840" y="2471760"/>
            <a:ext cx="5715000" cy="4029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5:49:23Z</dcterms:created>
  <dc:creator>Mariana</dc:creator>
  <dc:description/>
  <dc:language>en-US</dc:language>
  <cp:lastModifiedBy>Bla</cp:lastModifiedBy>
  <dcterms:modified xsi:type="dcterms:W3CDTF">2011-11-23T08:14:00Z</dcterms:modified>
  <cp:revision>67</cp:revision>
  <dc:subject/>
  <dc:title>DSL ТЕХНОЛОГИЯ</dc:title>
</cp:coreProperties>
</file>