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3943-42B4-4CE4-AB30-093D04DE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421-20A1-4D43-B107-A1151BF0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3DD-5983-4863-81C6-DE8A534D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BA1-FE88-477E-BEB9-A43297D7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C9E9-2A20-4DCB-8EF9-A4948657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8B04-1A32-46AB-A379-529A30D6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A9D6-53D8-4A39-9AD1-9F0D3D72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3FDC-2AF7-4B55-AB25-084E9C43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C7D8-E0F7-42A8-ACC1-80320F2E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3CB4-9595-4C69-91BF-CC2C0A7A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571E-190E-44CC-B601-A4CE02BA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FA7-6F39-4DC6-85BC-F5EEC20D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740C-8F70-434B-A4CD-404587C1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C19E-9242-41D1-AD92-3072A46D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E84F-9EAE-4B71-B076-CF4D28A5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8AD2-21B6-49A8-AA4F-BF2602D7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08E8-4F4B-4F5B-B6EA-DB1EE9AC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A7D23-9982-46F6-BB17-C80C5E29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7531A-5A0A-4622-8C6D-903F3803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E83F5-3358-49A3-AE6A-C8C042FB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7C82E-78D8-436D-95E2-98C13937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3F6BC-ED81-4068-811F-FFDFEE21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808-34CC-4A82-B13E-A69733E4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D9C70-88A4-4881-AA14-3878F47D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2F443-6269-4EC7-87E6-8C19892E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D7414-652D-4AD1-AFEF-6AAC9A14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3FC27-2F71-47E8-B847-DA39863A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9F268-59CB-4524-AD68-AB2375DE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0E4F2-2120-4224-ACE1-EF8EF719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7D52F-4480-4CD3-97B0-99AFA919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F4403-5FAB-4FFF-A0D3-DE4B79CC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CB8CC-C01B-4C1A-BB3C-208D08D3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99D35-B894-4584-BBFF-2D14DA01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FF4-D1ED-4FFB-B3F5-36E2DCE6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2969F-4A0E-4816-85A1-D7D0B766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7B353-5312-4170-9FAC-8D21AC3F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574AF-F05F-4BCF-A8A5-141AB2A5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02245-C156-44B3-B681-4E3C1011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E9E14-A4C4-49F1-B329-A92EE272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7C32F-23D9-4DDE-8DDD-F7CC185F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DB0AF-8FBC-4875-82D5-C7AEF67C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3A31-CE1F-4DDD-B9B3-8E3D4FC1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1401C-0796-493D-9176-42BD6C9C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D91-64D1-491E-A56D-A572D54A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827-C9DF-433E-B2D8-36E719DA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EEF-78F0-4E84-898B-8DF09BD7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12A-E8D2-4A31-96F9-4B96A10A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00E-A42B-4397-A4F0-B8D6E488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7188-543E-455A-8593-E3B29A50CE96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авоъгъл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авоъгъл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авоъгъл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авоъгъл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авоъгъл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Закръглен правоъгъл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Закръглен правоъгъл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авоъгъл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авоъгъл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авоъгъл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авоъгъл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E6F3-B764-4FCB-969E-DBC1D0C5FFE3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FFD1-0553-4EBD-8CDD-19BF3F5674F6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273E-EB3F-4EDE-90AE-DC0B6E182419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47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писание на проект </a:t>
            </a:r>
            <a:br>
              <a:rPr sz="5400"/>
            </a:br>
            <a:r>
              <a:rPr b="0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азин и ремонтна дейност</a:t>
            </a:r>
            <a:br>
              <a:rPr sz="5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240"/>
            <a:ext cx="814716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424456"/>
                </a:solidFill>
                <a:uFillTx/>
                <a:latin typeface="Times New Roman"/>
                <a:ea typeface="Times New Roman"/>
              </a:rPr>
              <a:t>Изготвили</a:t>
            </a:r>
            <a:r>
              <a:rPr b="1" lang="en-US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Любомир Попов фн.7119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етко Петков фн.7108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офия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011 годин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284720" y="5214960"/>
            <a:ext cx="573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роектиране на моду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зграждане на прототи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иране на системата/сайта  на кл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ация на центъра за поддръж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Тества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Набиране на клиен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ускане на системата в реално врем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Gantt </a:t>
            </a:r>
            <a:r>
              <a:rPr b="1" lang="bg-BG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71400"/>
            <a:ext cx="67579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41400" y="6211800"/>
            <a:ext cx="498240" cy="60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Lyubo\pics\scn\capture_002_23112011_095432.jpg"/>
          <p:cNvPicPr/>
          <p:nvPr/>
        </p:nvPicPr>
        <p:blipFill>
          <a:blip r:embed="rId2"/>
          <a:stretch/>
        </p:blipFill>
        <p:spPr>
          <a:xfrm>
            <a:off x="714240" y="1143000"/>
            <a:ext cx="81439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D:\Lyubo\pics\scn\capture_004_23112011_095746.jpg"/>
          <p:cNvPicPr/>
          <p:nvPr/>
        </p:nvPicPr>
        <p:blipFill>
          <a:blip r:embed="rId3"/>
          <a:stretch/>
        </p:blipFill>
        <p:spPr>
          <a:xfrm>
            <a:off x="1071720" y="857160"/>
            <a:ext cx="6742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ERT </a:t>
            </a: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Content Placeholder 3" descr="D:\Lyubo\uni\upro\sPERT chart.jpg"/>
          <p:cNvPicPr/>
          <p:nvPr/>
        </p:nvPicPr>
        <p:blipFill>
          <a:blip r:embed="rId1"/>
          <a:stretch/>
        </p:blipFill>
        <p:spPr>
          <a:xfrm>
            <a:off x="996840" y="2249640"/>
            <a:ext cx="7150320" cy="4324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ЪПРОСИ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428840" y="2471760"/>
            <a:ext cx="5715000" cy="4029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5:49:23Z</dcterms:created>
  <dc:creator>Mariana</dc:creator>
  <dc:description/>
  <dc:language>en-US</dc:language>
  <cp:lastModifiedBy>Bla</cp:lastModifiedBy>
  <dcterms:modified xsi:type="dcterms:W3CDTF">2011-11-23T08:14:00Z</dcterms:modified>
  <cp:revision>67</cp:revision>
  <dc:subject/>
  <dc:title>DSL ТЕХНОЛОГИЯ</dc:title>
</cp:coreProperties>
</file>